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D5C2A-0103-4FC7-9756-BA2D176EA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EA13F-DBA1-423E-BFB2-755735938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B1691-A733-4D28-9019-DA1C573F7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F6774-C779-4C76-B550-E2951EBA5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1565F-14BC-41AB-A247-14895D42D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99E89-2964-4C09-B5ED-42BE8241D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6D0CF-D229-4C15-ACF9-FC393B877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3529F-5676-48A7-8B16-A04AABA74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4999F-1F63-4897-845C-4022AA99B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11BBD-7907-4623-84BC-CBF6F7BA3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37F95-71CB-4C76-B103-23E467652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1D00D-D883-47B4-B37C-BD994C55B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54C84-8193-4F00-86C2-C3CEFC7C6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2EC8F-82A1-4C5D-B530-9F91A3CAB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371BF-B959-4E45-B6EE-DFFEFE98B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42222-730C-4888-AC40-68CCA50C3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14C10-5A1E-4C7D-8943-4167B2FD5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056CE7-BB76-4D06-92E5-2B031C403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A6E5FB-8411-4AD2-8A21-50F5D3799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6338F4F-F544-4BEB-A1C0-539DFDB5A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735B119-5756-468C-A59D-53572E8CA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4B3BB1C-E00C-4A2A-8C5C-18678C028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21308-66E6-4581-96CE-94A3C39F7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E47F3B9-B771-4676-AFAF-1BCBEF5ED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CD418FE-E888-48B6-A203-586C1ABFA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9473F56-1F36-4A7F-9070-FD5BC4882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3F8C21A-5E13-415A-91B7-A7EB38E63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8934F88-7A86-44BB-899A-AAC7DA673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81E6CFE-633D-4DEF-B94F-ACC37CFA0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6A5DD23-5682-488D-8853-4802464B9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BA2CB6-A9EF-4B4D-9090-CDE3E0D55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45A530-1F6A-4D42-97D1-A7E624999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119AB5-5EDF-47D5-98C3-BC492F506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13ABF-8978-4D5F-8CFA-4A6B68A77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B558B5-BC35-4BCA-B500-969F20EF7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F7F5C0-B7B8-40EE-BA24-83A769A77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5BAC7D-C1C1-43F1-AC5B-977854A8F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3F8167-F1A3-4B5F-8BFF-2E8164860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D23F33-3F34-4498-A4D0-B9CEDF329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0CBECC-C1F1-4852-8F04-18A2362EF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DBD42C-782F-481B-BAE8-26F865B97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704439-3D1C-4ADA-9F90-C37575848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E604D6-3DF9-42E2-963C-A48F13500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F183360-6382-4D60-89EB-CDFC34285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D83C8-B1F7-45AF-8F4A-A98604FFB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8B67C9F-FF14-487A-ABBA-FA37DA16A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5414CD5-6C35-4D3C-92AC-081FDE373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D43E2A0-D4CD-4B20-AE51-AB83D438C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D123690-8945-4E56-9022-AD42A4BEE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027F2D8-BD4A-4099-ADE9-80DE9AFBB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DC9916A-6B25-4606-B885-8DBC10E2C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9BEAD0F-B7C4-4676-AC8C-43B272711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F85638B-2F00-4050-944E-1A8F354C4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7691FB4-CD2C-4239-99CD-CDD1D87D1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B1D825D-602A-405C-BD51-705FAF55A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DCACF-CF46-4178-9626-5E63FF256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E189709-563E-4C55-B931-EC69948F3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24B7BE3-7660-472E-B712-CAAE24909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5B3924C-229C-4D57-9E99-435A68147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7EA7DC4-BB91-4A47-B1A7-611B047A4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5DC3B1F-92F3-4D2F-9264-2B05D3D5A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9A5A2CC-A2B2-4D4A-B8C0-1964D8929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33F4448-25CA-44E0-95C3-D51A49A31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46F8AB2-DDC9-4E71-9C7D-3BD6B56AB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F72AF7C-D0ED-4CEC-A9C3-D73658038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09DF3F0-9AC4-4CB7-8481-F2B92327D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EBA48-24DC-4CB6-BB2D-99F473CFB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5B5D482-7B3B-42DF-95C0-1393B4B11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E024EBB-A3DF-43F5-A7D1-56CC42505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641F6DA-6663-49DE-9E03-E12E648D3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EEABC63-3472-440E-9224-746442116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175F5A9-D66C-4F4D-AB30-A2845AC31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FFCBB05-84F5-48FF-BCBC-BD4393AE1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6CF7A02-76B1-4937-8E29-ADE2F9C98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B837ACE-AEA8-416D-AB0F-48BBC3C17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36F87DD-B141-4C77-943C-EC793D3DC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4E96E13-8180-49E1-8996-948952F9C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89276-0FC6-41F3-9B3A-71EAF79A3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A6162C0-69A3-40E7-8C46-2C34E7058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815C64A-FDDD-4394-8F58-D46DC2F8A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4431F38-0AF6-4720-9542-01F27C7C1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12FD4BC-B768-4118-8FF0-CA62566FC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35578FD-5815-419D-83D1-5DB965C7C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CB39D-3485-4DA4-A035-BE54715C2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774FC-B0C5-4E04-BC38-A7DC1DFB5AD3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Straight Connector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Rectangle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Oval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Oval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Oval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Oval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46622-08E0-4968-90F2-CF4AD0E52097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347AD-96C6-48B8-A2B0-861091106C58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Oval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Oval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Oval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Straight Connector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B7745-6D31-40ED-9C8F-00E5449EB8C5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6B4A4-246A-4F91-A574-0297A7CDBAB5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Straight Connector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Straight Connector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Straight Connector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Rectangle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Straight Connector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Oval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D171E-BBDD-4A43-A373-2FFC010C0779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Oval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Straight Connector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Straight Connector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A9B3F-311A-44F4-B7E7-92F9922669D7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5345280"/>
            <a:ext cx="6172200" cy="52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575f6d"/>
                </a:solidFill>
                <a:latin typeface="Century Schoolbook"/>
              </a:rPr>
              <a:t>XWIKI OFFICE IMPORTER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943240"/>
            <a:ext cx="61722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- Asiri Rathnayake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INTRODUCTIO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6840" y="990360"/>
            <a:ext cx="7467480" cy="54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1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ub point – 1.1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ub point – 1.2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2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3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pecial Characters :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β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™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®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∑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Ω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∞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≥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µ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≠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±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5" name="Picture 3" descr="linux-logo.png"/>
          <p:cNvPicPr/>
          <p:nvPr/>
        </p:nvPicPr>
        <p:blipFill>
          <a:blip r:embed="rId1"/>
          <a:stretch/>
        </p:blipFill>
        <p:spPr>
          <a:xfrm>
            <a:off x="1066680" y="320040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STUFF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6840" y="914040"/>
            <a:ext cx="7467480" cy="55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ordAr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hap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nd more…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8" name="Rectangle 3" descr=""/>
          <p:cNvPicPr/>
          <p:nvPr/>
        </p:nvPicPr>
        <p:blipFill>
          <a:blip r:embed="rId1"/>
          <a:stretch/>
        </p:blipFill>
        <p:spPr>
          <a:xfrm>
            <a:off x="579600" y="1170000"/>
            <a:ext cx="4187520" cy="1128600"/>
          </a:xfrm>
          <a:prstGeom prst="rect">
            <a:avLst/>
          </a:prstGeom>
          <a:ln w="0">
            <a:noFill/>
          </a:ln>
        </p:spPr>
      </p:pic>
      <p:sp>
        <p:nvSpPr>
          <p:cNvPr id="359" name="Smiley Face 4"/>
          <p:cNvSpPr/>
          <p:nvPr/>
        </p:nvSpPr>
        <p:spPr>
          <a:xfrm>
            <a:off x="1676520" y="2590920"/>
            <a:ext cx="1143000" cy="1143000"/>
          </a:xfrm>
          <a:prstGeom prst="smileyFace">
            <a:avLst>
              <a:gd name="adj" fmla="val 9282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657240" y="3124080"/>
            <a:ext cx="1676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THE END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6T08:55:36Z</dcterms:created>
  <dc:creator>Asiri Rathnayake</dc:creator>
  <dc:description/>
  <dc:language>en-US</dc:language>
  <cp:lastModifiedBy>Asiri Rathnayake</cp:lastModifiedBy>
  <dcterms:modified xsi:type="dcterms:W3CDTF">2009-01-06T09:18:00Z</dcterms:modified>
  <cp:revision>15</cp:revision>
  <dc:subject/>
  <dc:title>Slide 1</dc:title>
</cp:coreProperties>
</file>