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6E07F-176F-4892-86A3-24385FE02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F8FA6-29CF-4525-85BE-608E8384A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60379-F374-4364-B8E6-36D7BE7C6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E4B20-F177-4E1C-9AE6-05161859D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E5F02-C2F5-492F-AF1C-99188B183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20FF1-1EB3-4A50-AEA9-78E8C5899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5DA5C-DD3A-46A4-B097-A249423B6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F7515-326F-4C85-A9A2-2D4218C3A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33FB7-CE0E-4AE6-B026-DEE9DD9F2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59636-4CAA-469F-AE15-DC7EB63CF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E8FA9-8612-4213-95A2-0C7F33DBC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44CE6-89F9-42F7-932A-28D6736D5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A8EF0-BA93-4DBA-B179-33FD170AB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EB131-B372-4E4C-863D-FE83989B8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79994-2F51-4C75-AF38-6AEA3BE76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A0BBF-EEE1-4934-89A5-5D19D4393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D5DC9-16B5-487C-8168-E8764F443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71C8938-88E5-4358-996A-5F355D9D7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460270B-54AF-4B7E-AE2E-018AB62F8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A268EF9-D290-4FB3-BAB7-B18764D39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401790-35D0-4A27-91FA-F1B4E289F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F4CA2C0-D093-4981-B673-AA4068403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56CDB-AD98-4F53-AD98-21807E422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59A0833-4A9F-4480-992B-66A48186B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B179CE-CD28-4FF9-893E-9BB0B9D61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328F66A-F446-490C-B106-3DAEDDA11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6676C73-8D33-4AFB-9375-85AC0FBD4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A01D5C-8196-46F0-A930-A2832B126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1808283-B3AA-49B0-B1F6-9876ADCCF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4740754-1A31-4F8E-AC81-8966615CA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C79F40-2187-4D86-AF15-1EC556BCC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FB5DBB-2A3A-478C-8B06-244D73B19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CE5C64-2521-44DC-A433-91F079CF1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9A807-A308-4484-BF96-026AA942D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B7FE29-116A-45B4-92B0-2257C0F39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0DF204-A0E9-4FB1-A29C-50FDAEF70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6F43DB-DE73-4EE8-81E2-868248E3B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9ED349-9ADE-4FF0-B450-DD348472A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4E9BAB-D859-403F-969E-DAE0C0B11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04E1EF-BF90-4B5E-94E0-132EE5B93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EE612D-C0A6-4F3A-9B21-45A257087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ABEFF0-38C8-4E62-978A-1478A88DE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826ED8-FA5E-46AC-8FF7-D3F732CFD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503B7D9-3E9F-4A7F-8F3F-7F8C7C644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EE3E1-08C6-4D53-A330-6EC754C80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A536C01-1918-4A93-9D43-3F826D08C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3D6076E-587C-4D35-A3B6-78CEAC63B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77CC9F0-18B0-4D3F-9640-A62AFED77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103ED79-0228-4728-A669-29D11599E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C64676F-CBF4-4D2B-9D34-D3AC7F9DB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703A034-8DE1-4A74-AFC8-2AA507AA0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24FFDBF-38AB-41AC-9B1A-DB64CF213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642C591-9F3C-4B61-AB3B-E44AA92D5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7454DEA-C3E7-4483-A772-C1B849541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E562119-7055-434C-8321-E233F9EE0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C2DE0-50F7-4CF3-854D-6D778B441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A653BC2-6878-43CC-BC0B-2917F1E70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2F23AA9-7919-4AE9-A9F6-F80DA1E85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B37BCB1-CC2B-4A2B-88A9-CFBBECBA0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A963CD1-8BBA-4A7C-9BE0-2FDA275EC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CA813EE-82D6-4CEB-A86C-1A57FDAC9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6440E5B-B4A3-4EDF-A8A0-3EEF2AAE4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F73B2E3-F53A-4DD9-8208-57F43B624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3FC2770-9AA1-4F3A-A523-FEBEC1449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491BA53-C4E3-4095-A65A-0F281D571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80CEA03-B916-4B5F-A3A6-FCCF18344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0AAF9-D02C-4147-A967-B410595B3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968E32F-5BFB-462F-A5BE-21E1F505E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D8835F4-DF91-4B90-9B0A-3A11EF061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25486B4-DA97-49FD-9D44-F9CCA9486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4C6EDC1-4F8C-4EDD-A5C6-FCF053DAE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EEC79AB-FE77-4734-8408-F4F1BCE9F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7BCA3A7-A81A-4FF5-BFD6-629BFBE06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562A114-9A5E-4F9E-86CF-2EEF68236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2AD1AEC-B7CC-42F2-94EE-20F1E4F13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2C769D6-517C-4370-8B02-88B0FEA4F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08C48AF-C8DC-4BE4-8727-7952DE6EB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2939F-189B-4491-9FA0-44B411721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314B7B9-1750-4084-9A04-9330B1D8F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0B5EBD4-D96B-43B4-94AA-302EC82BB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2C3FC77-9181-4C91-AAA1-A54D121B1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C6EE7F9-1D4F-42BE-A870-8ECB04165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373AE7A-C17C-4263-8559-DC3438AD4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C1080-3C1D-4ED7-B9E4-DF212EC79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DE338-631D-436E-9C9D-A9D59C089FB1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Straight Connector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Rectangle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Oval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Oval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Oval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Oval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22A8B-84B2-45B5-AD8D-6FF999BD2A40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01884-6443-402E-AC8A-5C3FE5BE68D4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Oval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Oval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Oval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Straight Connector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C4E9C-D82B-4B97-A97B-7C03FBF79D05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37CE6-DDFD-4F43-9DE5-166022315C96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Straight Connector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Straight Connector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Straight Connector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Rectangle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Straight Connector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Oval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BAD1F-09C4-4F7D-8AAF-EC951C40A776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Oval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Straight Connector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Straight Connector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40FC9-DEE6-484E-9539-53BA2D3B0882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5345280"/>
            <a:ext cx="6172200" cy="52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575f6d"/>
                </a:solidFill>
                <a:latin typeface="Century Schoolbook"/>
              </a:rPr>
              <a:t>XWIKI OFFICE IMPORTER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943240"/>
            <a:ext cx="61722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- Asiri Rathnayake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INTRODUCTIO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6840" y="990360"/>
            <a:ext cx="7467480" cy="54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1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ub point – 1.1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ub point – 1.2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2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3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pecial Characters :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β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™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®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∑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Ω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∞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≥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µ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≠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±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5" name="Picture 3" descr="linux-logo.png"/>
          <p:cNvPicPr/>
          <p:nvPr/>
        </p:nvPicPr>
        <p:blipFill>
          <a:blip r:embed="rId1"/>
          <a:stretch/>
        </p:blipFill>
        <p:spPr>
          <a:xfrm>
            <a:off x="1066680" y="320040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STUFF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6840" y="914040"/>
            <a:ext cx="7467480" cy="55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ordAr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hap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nd more…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8" name="Rectangle 3" descr=""/>
          <p:cNvPicPr/>
          <p:nvPr/>
        </p:nvPicPr>
        <p:blipFill>
          <a:blip r:embed="rId1"/>
          <a:stretch/>
        </p:blipFill>
        <p:spPr>
          <a:xfrm>
            <a:off x="579600" y="1170000"/>
            <a:ext cx="4187520" cy="1128600"/>
          </a:xfrm>
          <a:prstGeom prst="rect">
            <a:avLst/>
          </a:prstGeom>
          <a:ln w="0">
            <a:noFill/>
          </a:ln>
        </p:spPr>
      </p:pic>
      <p:sp>
        <p:nvSpPr>
          <p:cNvPr id="359" name="Smiley Face 4"/>
          <p:cNvSpPr/>
          <p:nvPr/>
        </p:nvSpPr>
        <p:spPr>
          <a:xfrm>
            <a:off x="1676520" y="2590920"/>
            <a:ext cx="1143000" cy="1143000"/>
          </a:xfrm>
          <a:prstGeom prst="smileyFace">
            <a:avLst>
              <a:gd name="adj" fmla="val 9282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657240" y="3124080"/>
            <a:ext cx="1676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THE END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6T08:55:36Z</dcterms:created>
  <dc:creator>Asiri Rathnayake</dc:creator>
  <dc:description/>
  <dc:language>en-US</dc:language>
  <cp:lastModifiedBy>Asiri Rathnayake</cp:lastModifiedBy>
  <dcterms:modified xsi:type="dcterms:W3CDTF">2009-01-06T09:18:00Z</dcterms:modified>
  <cp:revision>15</cp:revision>
  <dc:subject/>
  <dc:title>Slide 1</dc:title>
</cp:coreProperties>
</file>