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E522-3DCA-41D0-82E9-F4072ABC8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2CB5E-EA44-4558-839B-2EFE198C0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5568-079D-4C6F-9B34-1F8D62988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AA54-52A3-4AF7-B209-3E29B14C3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F5510-9E82-4C96-8439-848ECE6C1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51DC2-E2AE-479C-B099-C7A0C4C7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D4320-6165-4727-A406-1311CED0F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DEFE-5D9C-4C6A-A806-67ED88650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C98C-70A1-4E96-85A1-AF120A560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B0382-DE9C-4167-A845-E8BE11B5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D066-1E0B-4F74-8ADB-C1F077E19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B31C-7BFB-466A-94D7-F7CEE035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E3374-8CBF-490D-ADBF-4DF3EB8D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42E3-AF2C-4130-A50B-8A8BC369E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613D-9214-4AA1-8D75-42F5648E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6E0E6-7686-4815-901B-86379B503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A340-3EC5-4FDC-BC21-3F785CE1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3E254D-F70A-44F7-9F01-9A63F720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6D3F24-31C2-4A41-8E28-A7284AAB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8D288F-2580-4CBB-A2BD-A44A7E350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E5796-23E4-43AB-9EDD-B61AE510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AFA8F-2778-4FFB-A344-88CDF00AE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B9D-C73C-4D6B-892B-9DBB0B8C4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143F2C-0DC1-4F2F-8FD2-700DA60E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2F291D-62B2-4F61-8192-8C5B6E11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0E5F04-BEBA-49DD-9AD9-56D5BC00E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FAF2BD-8C33-437F-AE9A-21A1B4AB3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69087-384B-4CD9-8051-C3D1EE2F0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1B444B-0924-4C35-ACE6-BFE0972F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78E31A-64BB-4FC0-8E45-60E3C8CA7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2721F8-F7E8-46A9-8E1C-60CE62614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62FE8-FB9F-4B01-B7B3-AD96B77A0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7F65-E1E3-48A0-AB6E-671060EB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D42B-E835-4814-B3BF-C6CB0915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306DE2-180C-4CD5-B559-385ECF97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A247B-F166-4E0D-B89D-F8BA7E141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BED309-A6CB-4A9C-BF2F-CED1D25F7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452548-3FA5-4C24-AF49-0BC3EAB16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54AE70-1D19-4607-80F8-D45AB8C0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A381C-4EA4-4D3F-B238-924567CE7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41CC09-C519-4B79-BC90-DA937CB9B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570C4-88DB-4ED4-924E-DFDC647C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7BC0C-E8FC-4AB2-9386-A57C8B034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C8C78D-19A9-40C4-9FCE-44D587FC1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938B-141A-4EF4-BEC8-4A15B4000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3D6680-A1C8-43B5-8767-AF833B7FD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BD2E1F-341C-4452-BCD1-CD344AAD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BB9218-219F-46A4-83D4-778F807D4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E52C43-4E6D-4C18-8710-5E7CD281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95C51AF-C70B-4873-B41D-23CD1FA63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BEFD556-1F30-4682-8FCA-3837A7754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AF4240-ABD2-445B-9814-A37A4279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9854D5-0CFE-412B-AE11-ADF45BC5A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49C955-36BC-4E61-92B2-6B035B57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032C150-F15D-45FD-BEC1-34A4D29D3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E9DF-966D-4874-9518-36603951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06E1C-86BA-4693-A3EE-D41021E9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CECCF2-F351-489B-8B2A-667D346CA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433F2B7-FEBA-44C5-A22A-7EDEA65F6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B74DEFC-FC0C-4D91-9618-7C98DBB9F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231FAC2-5E27-4E98-AF12-A290462D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0BBD54-1389-48ED-90EE-D9BCDDCB7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762A81-6BBA-4A73-A6B2-E103EC14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9C535D-D564-4D13-8CE3-75AD8CF5E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6623EA-909A-46CE-ABB5-41D7BB6DB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AA7342-F8D6-4B00-829B-ADE3F17F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5552-4C95-43C1-BC68-41D86167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DC85B2-9F6D-4A67-81A6-F4720494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75738C-B5CF-472A-8C21-D6302EE9A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12EB03-A163-47C9-A1E5-36A46EBA9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A68921-EA81-4489-84F9-B8F91DB5F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2B7197-A55E-464B-95E8-398665B9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C9ABB4-5D65-4F6D-A93A-EDD818B72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9C2F3CE-A92B-4855-AD93-A419B6F9F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94DF83-A92D-4241-B4E4-E023B3D6F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1C423-2CB1-4D1F-B169-8BE1DD83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C32C52F-DDAE-40AC-8662-480097DF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95B6-BDC5-404D-9AA0-4625A2F2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3C82F6-0FA3-4A8E-947A-8585BCA7F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BF68C4-8D54-4754-B3FE-E090A450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B396D2-ECEB-47F7-B7FA-41228C69B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B5D0FD7-A5AA-4432-919D-23EDA2495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2B21118-E545-4969-AE47-8F0B0018D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3236-CE86-4C0C-923E-A899AF47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C224-C017-4319-B102-10D9722FA5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0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3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4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5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Straight Connector 2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Rectangle 27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Oval 28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9" name="Oval 29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Oval 30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Oval 31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Oval 32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8AAE4-A401-417A-A525-9D44ABD512B2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7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8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278D-CB59-4100-A0C1-948A18BD7C4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4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2" name="Rectangle 16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3" name="Rectangle 17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4" name="Rectangle 18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5" name="Straight Connector 19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6" name="Straight Connector 20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7" name="Straight Connector 23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8" name="Straight Connector 24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9" name="Straight Connector 25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0" name="Rectangle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1" name="Oval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2" name="Oval 28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3" name="Oval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4" name="Oval 30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5" name="Oval 31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6" name="Straight Connector 32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8EECB-C839-4380-AE4F-2CA534B4033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9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0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2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3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38304-ECA3-4B95-8699-4E6CAF3D2D5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6" name="Straight Connector 16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7" name="Straight Connector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8" name="Straight Connector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9" name="Rectangle 1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0" name="Straight Connector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1" name="Oval 23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9C2C8-E7A0-470E-9BFD-19A9EE0B21B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traight Connector 14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4" name="Oval 1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5" name="Straight Connector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6" name="Rectangle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7" name="Straight Connector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8" name="Straight Connector 20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9" name="Straight Connector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52C6E-B68E-4D12-856F-417343E512D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5345280"/>
            <a:ext cx="6172200" cy="52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575f6d"/>
                </a:solidFill>
                <a:latin typeface="Century Schoolbook"/>
              </a:rPr>
              <a:t>XWIKI OFFICE IMPORTER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943240"/>
            <a:ext cx="61722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75f6d"/>
                </a:solidFill>
                <a:latin typeface="Century Schoolbook"/>
              </a:rPr>
              <a:t>- Asiri Rathnayake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INTRODUCTION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990360"/>
            <a:ext cx="7467480" cy="54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1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1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entury Schoolbook"/>
              </a:rPr>
              <a:t>Sub point – 1.2</a:t>
            </a: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2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oint – 3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pecial Characters :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®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∑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∞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≥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µ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0" lang="el-GR" sz="2400" spc="-1" strike="noStrike">
                <a:solidFill>
                  <a:srgbClr val="000000"/>
                </a:solidFill>
                <a:latin typeface="Century Schoolbook"/>
              </a:rPr>
              <a:t>±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5" name="Picture 3" descr="linux-logo.png"/>
          <p:cNvPicPr/>
          <p:nvPr/>
        </p:nvPicPr>
        <p:blipFill>
          <a:blip r:embed="rId1"/>
          <a:stretch/>
        </p:blipFill>
        <p:spPr>
          <a:xfrm>
            <a:off x="1066680" y="3200400"/>
            <a:ext cx="12193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TUFF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456840" y="914040"/>
            <a:ext cx="7467480" cy="55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WordAr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hap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524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And more…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58" name="Rectangle 3" descr=""/>
          <p:cNvPicPr/>
          <p:nvPr/>
        </p:nvPicPr>
        <p:blipFill>
          <a:blip r:embed="rId1"/>
          <a:stretch/>
        </p:blipFill>
        <p:spPr>
          <a:xfrm>
            <a:off x="579600" y="1170000"/>
            <a:ext cx="4187520" cy="1128600"/>
          </a:xfrm>
          <a:prstGeom prst="rect">
            <a:avLst/>
          </a:prstGeom>
          <a:ln w="0">
            <a:noFill/>
          </a:ln>
        </p:spPr>
      </p:pic>
      <p:sp>
        <p:nvSpPr>
          <p:cNvPr id="359" name="Smiley Face 4"/>
          <p:cNvSpPr/>
          <p:nvPr/>
        </p:nvSpPr>
        <p:spPr>
          <a:xfrm>
            <a:off x="1676520" y="2590920"/>
            <a:ext cx="1143000" cy="1143000"/>
          </a:xfrm>
          <a:prstGeom prst="smileyFace">
            <a:avLst>
              <a:gd name="adj" fmla="val 9282"/>
            </a:avLst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657240" y="3124080"/>
            <a:ext cx="1676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575f6d"/>
                </a:solidFill>
                <a:latin typeface="Century Schoolbook"/>
              </a:rPr>
              <a:t>THE END</a:t>
            </a: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6T08:55:36Z</dcterms:created>
  <dc:creator>Asiri Rathnayake</dc:creator>
  <dc:description/>
  <dc:language>en-US</dc:language>
  <cp:lastModifiedBy>Asiri Rathnayake</cp:lastModifiedBy>
  <dcterms:modified xsi:type="dcterms:W3CDTF">2009-01-06T09:18:00Z</dcterms:modified>
  <cp:revision>15</cp:revision>
  <dc:subject/>
  <dc:title>Slide 1</dc:title>
</cp:coreProperties>
</file>