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F94B-8551-4AC8-B5CD-194BEF516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67CD-0729-48E1-BEED-E77BE60F7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8C4D-25C5-4F37-9CA3-EE3F87520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CF75-F254-4154-98E6-7AB7AAEB8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D3476-AAD2-49EC-A0C7-90067A1F3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FF536-1950-4326-A75C-3B2AE7CD9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BD732-CF6B-435F-85EF-EA6A52FEE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4BDA5-5B7C-440D-9A89-437D92B86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42AF3-0F6E-4F22-88F9-849C5ED81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A2E60-342C-4AED-8E3E-6712A98DA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4C166-58B2-4C8A-9FB4-0ED2398B7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EF12-1150-4EB2-B459-C3DD756B7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0E54A-BEF4-4CAD-9221-53AFD3FBC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22565-47D3-48FE-9844-69A447749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A0FF3-F8D8-4D7F-8668-CAEBF4613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A858F-3589-4CCC-A22C-352997F53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2E5A0-A263-44B8-B71D-FACAAAF9C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2A40C9-A63D-48B0-B599-E8E9C8348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F033D4-8135-4120-88D8-FA08E3546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F15916-ED67-4CBF-AB2A-EEBB6CA36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D679E4-896E-4A37-8EE1-30A61F5F7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BFB6F4-F7D1-4384-9146-7CD30DA6D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3B52-CC45-46B4-B690-557757878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22D760-4D40-441B-ABC4-F68400FED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235D27-0E32-4FA2-BFEB-9B7955482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5580B1-A869-4006-9E7F-F2AFE3665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846894-EF17-4155-B1C0-1468FFC63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15457D-C800-45DA-B60B-8F85E6C35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35F99F-DA64-4FBF-9FFB-181E3AD75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9212AB-742D-4496-8F8C-A7811FCBF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B1A05E-9D1F-46A4-A4B5-0261285DE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44A173-7E0B-476B-A28A-C1471E0BF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ED6221-DA4F-4BF3-A057-3EF518CAA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6C3A-F8A2-42B4-B03C-8022EE66C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27F97E-7D3D-457E-AF63-EE769B2F9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D0E161-F58E-4998-B704-1591F0F91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C4217F-2CC7-4959-ABBA-97CEC233A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866876-3768-49F3-B9B3-85F20A4FE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DD009B-8E2C-42DF-A222-88C031C8E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9B3603-4EA1-4827-AE4C-8772C1132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CCF2B5-33C3-4129-A113-55672FB55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B8FC71-34B6-43B5-8F38-C2050D1D7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0D6DBC-96FF-4DD8-922A-5D0A5A528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BBEA0B-600B-4AF1-AC97-C5DA6FF08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15E0-099B-4984-A414-CAEC27571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4EEA5A-E365-4368-BBDE-493731565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4FC051-2457-483B-856E-ABD59A32D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65ACE0-F14E-4ED6-84A8-A4C3C0CD7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18AE55-1FD2-4999-94CA-CEE096C6A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E495AF-9F89-4063-BB04-0307C8AC3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16772FA-89AA-478A-A72F-D3212EBB0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C1BEA2-5597-433E-B543-CC967C859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53F1F0-684C-41BC-8F10-7DF4CC3D4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EB718C-3A88-465B-AC0B-8A5A7BA7E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B1C72D-448A-4B61-B339-8E906E7BB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4C1F-3593-4793-80DC-97C413D4E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A01646-1B10-4DD4-B4C4-7DBAB6CA0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DC977D2-E35E-4421-871F-6085125B1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FA47405-27F4-4D76-8C26-31FAE29D4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B820893-67DA-4AFC-A830-DF674FBA4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9525D88-E62A-4833-8285-EB9E45ED4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80C1293-671E-49E0-83C5-35ECE5951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5515C74-3311-4783-9D61-6A2227077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6396C0B-E29C-48AD-B81C-A4DAA4C43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0E8024-0C3D-4D32-857F-DBE8E3093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8AFCAB-151D-4CF7-9606-0885AAFF1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D870-2441-46ED-9528-A00745B51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75C239E-3AF7-47B3-8CE4-95A0DD595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DD4C2D9-816A-4B9C-9987-6029C3365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47E0A2E-EB2D-4C72-BE33-547841655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AA7DF81-1122-414F-8747-F647A908F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12E2DC6-49B3-49EA-BF9F-713DF255C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091F41A-8EB9-49F3-9DD2-D4D2491B0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6406B00-A2B1-4BDB-A4E1-9814B52A7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FA19E14-94D8-4DDB-BD34-09344564F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B66ADC2-0520-4844-8C22-24ECBE49B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36E3420-FA86-4938-8673-24549A597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B214-F8CE-4613-B166-4F591414B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7FDA832-553F-469E-A675-8051B61FF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5837F4F-FD2B-47DA-8880-9229C5806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045053F-A353-44F6-AF25-D068488C8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F34A2E5-57FB-4B1C-B755-5E69D1AF2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E357201-B176-4293-8086-397CEC233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4B53-4D26-40E8-90A9-8B9E24926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3BA0F-0C2E-4035-835F-473EBC17C32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418E8-A497-49D5-B54E-448EB6E99E1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3800F-5B7C-4AE8-87B0-891CB56594E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F6A25-32F0-4859-9046-798AF8BF0C7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76CAF-458A-42C6-B0CC-581DBFD27D4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82108-A827-43E9-9B5F-5C4FF7E0F6A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05E4C-FC24-484D-B01F-6E00C498DB4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5345280"/>
            <a:ext cx="6172200" cy="52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XWIKI OFFICE IMPORTER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943240"/>
            <a:ext cx="61722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- Asiri Rathnayak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NTRODU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990360"/>
            <a:ext cx="7467480" cy="54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1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2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pecial Characters :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™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∑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µ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±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5" name="Picture 3" descr="linux-logo.png"/>
          <p:cNvPicPr/>
          <p:nvPr/>
        </p:nvPicPr>
        <p:blipFill>
          <a:blip r:embed="rId1"/>
          <a:stretch/>
        </p:blipFill>
        <p:spPr>
          <a:xfrm>
            <a:off x="1066680" y="32004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TUFF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914040"/>
            <a:ext cx="7467480" cy="55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ordAr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hap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d more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Rectangle 3" descr=""/>
          <p:cNvPicPr/>
          <p:nvPr/>
        </p:nvPicPr>
        <p:blipFill>
          <a:blip r:embed="rId1"/>
          <a:stretch/>
        </p:blipFill>
        <p:spPr>
          <a:xfrm>
            <a:off x="579600" y="1170000"/>
            <a:ext cx="4187520" cy="1128600"/>
          </a:xfrm>
          <a:prstGeom prst="rect">
            <a:avLst/>
          </a:prstGeom>
          <a:ln w="0">
            <a:noFill/>
          </a:ln>
        </p:spPr>
      </p:pic>
      <p:sp>
        <p:nvSpPr>
          <p:cNvPr id="359" name="Smiley Face 4"/>
          <p:cNvSpPr/>
          <p:nvPr/>
        </p:nvSpPr>
        <p:spPr>
          <a:xfrm>
            <a:off x="1676520" y="2590920"/>
            <a:ext cx="1143000" cy="1143000"/>
          </a:xfrm>
          <a:prstGeom prst="smileyFace">
            <a:avLst>
              <a:gd name="adj" fmla="val 928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657240" y="31240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THE END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08:55:36Z</dcterms:created>
  <dc:creator>Asiri Rathnayake</dc:creator>
  <dc:description/>
  <dc:language>en-US</dc:language>
  <cp:lastModifiedBy>Asiri Rathnayake</cp:lastModifiedBy>
  <dcterms:modified xsi:type="dcterms:W3CDTF">2009-01-06T09:18:00Z</dcterms:modified>
  <cp:revision>15</cp:revision>
  <dc:subject/>
  <dc:title>Slide 1</dc:title>
</cp:coreProperties>
</file>