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AC3D-7031-46DC-8BE2-4018DC552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C51D-AA2B-4D7F-8788-3865AC20D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D8C9-33C3-4363-92DE-9C8050DD4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0889-241A-4466-961B-AA8688A0E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36173-8CF7-4640-99F6-A13562770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1E5AF-0F83-487B-923B-B78911787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8A969-27AE-4FEA-A329-4E229DE84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054FB-F440-4C63-97A9-9E4C6A468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97C93-FF30-4141-A65D-37671035B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A4B27-31ED-44B5-ACEA-3CBE4DCE4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47B97-E303-46A2-B982-4A12BBDBC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508E-2CBA-4864-BD5C-5EA437E79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A82B1-6F0B-4FFF-AF91-FD09F925A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BC187-B8A7-4B1A-99A2-B9D3A860C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F06FC-C77C-4380-99FA-A1E91AFF7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B79F2-E6CA-4BCC-99E1-11BC980D4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BAAC7-F178-4B53-9C1A-33914D00C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4CFA4D-21A6-4EB4-A53D-8D7032635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3EFE29-0875-48A6-94B7-656AC5E26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D1E128-B6F7-4026-BEE7-215C79382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18C0C5-602A-48EF-87DE-17D0763D2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BB1F8A-6772-41E9-8244-70EFBB755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90A2-C178-4527-B943-126DC74C7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BA6D24-0568-408E-8F33-83CCC4C00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286FE0-32AF-42C8-BFA4-C61A77041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263D33-600F-4C77-94F8-4EF755578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E669AA-D60E-4BFC-8B20-0B3ADDFDC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C2C6A0-D899-4F53-9CC1-BF64AD2D2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DBE2E6-229B-437D-8390-52F965FD6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37591C-6719-42E7-AC51-4AB9106BB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F32A07-E180-4F77-AAD6-357CD8D56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C60A05-2ABE-4487-9781-8CAC30237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ABE0B0-58A2-49E3-B187-828D8F6D7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A2CB-2053-421F-83F9-2EE2E324C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DB2AF9-31F2-4F07-929D-438196973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74BD0A-007F-4FD3-9E4C-CE488678A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CE4CFA-26AD-4420-B299-4AAE414EC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FCDA5F-27BB-47AE-88C1-459915718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136E43-3C20-4B28-B591-46A8F2B0A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DAF715-D267-4CDD-ACC8-32CEB4860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896778-9145-4AE7-92F5-D31093979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B6ADEC-07FD-4808-9EDD-E24C72E6A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7B0AF6-60BE-4C1C-808B-CF39A3C90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50B6A1-60F7-45D7-AA1F-E3AEBC05D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2BC1-8EE6-4689-AFAE-E8A99AA6D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A87CEA-B0BE-4D0B-9CB2-DCF230ED2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20BFBC-1BE5-4D32-AD90-216AE4948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C117DE-9150-4720-8806-C5CFAE39A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41B313-74EF-4046-A94B-EE8406C96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3004A9-E8E7-4FCB-B8AD-32A5E8351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9CC0C5-B22D-4C1E-A079-12D7C6757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F2EEFA-5176-4D39-8DCB-5C373F8C8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99412E-8898-4E6C-8650-F127B2A80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B7D014-8493-4BC1-92CD-27D8D6F6E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B99E6D-DDA5-4677-8638-510F0C448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6491-1858-4CCD-8436-D9D5E1649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6017D7-C919-4103-95DA-F765ACF35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A36CF27-A1FE-4B6E-B52A-91BE2B899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8216EFC-4902-4430-80AB-A449ECEC8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611CF34-84FA-47DD-AD67-2B5020908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245A9C3-2940-447C-808E-C5C899ED9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B9C15FC-4AB5-4132-B646-D22D25A7C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0BF829D-EF1B-4946-A0DC-9092884DE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77D763-0E7A-494A-9C60-FFCD9A4B4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3F967FD-C2DE-4C2A-BD7A-F9DB50F55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B07DC85-8BA4-42E6-9FF4-81A950751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3A81-8AF7-4D23-B2BF-E7122606B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C509FEC-9F62-4887-9F07-D5288D775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3C8611A-ADC4-42B8-A0B0-004149084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DA08610-0CC6-4923-984F-68A2DFC7C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8A6D4F1-EFB8-425B-97C8-3FB1D911F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42438E4-55D7-4E5E-B4B1-EF5B8E309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7241C14-BCFC-4695-B84B-E8AE1D21F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616A33D-FAE0-44AD-AE59-B283F35A6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D77A4C7-741E-43C3-8DED-24C43302C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E0DC635-D6CA-4674-900A-7F43C928B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7B9059E-6C08-42D9-A502-E650017FC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48B1-0F7F-4211-B4D9-3839BAAE8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376CB22-1C10-40EE-AC84-E30980F9F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ACD070B-1BD1-4630-98E8-9BC25A392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BB21518-DC68-4340-B9E1-20161B009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19D7963-C8D4-4CAA-A67F-94DD2E953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28C33A1-CBC0-450F-878E-DDA955D73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D4A1-D1D0-4D50-9A78-9E0A7B1CF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59EFA-C519-4004-AF57-455E7A31B27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B849F-ADFD-49D0-A786-542161E680B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A51A7-9ACE-496C-8B82-2B9EB208105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1EAD3-1297-41E7-9EAC-442219F3B53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AD28A-3429-45A7-AEA2-971AEE320A9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052B7-7189-40BB-A738-963B0647B39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92283-4CEC-4315-9CC1-411D6C7A428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5345280"/>
            <a:ext cx="6172200" cy="52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XWIKI OFFICE IMPORTER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943240"/>
            <a:ext cx="61722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- Asiri Rathnayak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NTRODU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990360"/>
            <a:ext cx="7467480" cy="54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1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2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pecial Characters :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™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∑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µ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±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5" name="Picture 3" descr="linux-logo.png"/>
          <p:cNvPicPr/>
          <p:nvPr/>
        </p:nvPicPr>
        <p:blipFill>
          <a:blip r:embed="rId1"/>
          <a:stretch/>
        </p:blipFill>
        <p:spPr>
          <a:xfrm>
            <a:off x="1066680" y="32004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TUFF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914040"/>
            <a:ext cx="7467480" cy="55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ordAr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hap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d more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Rectangle 3" descr=""/>
          <p:cNvPicPr/>
          <p:nvPr/>
        </p:nvPicPr>
        <p:blipFill>
          <a:blip r:embed="rId1"/>
          <a:stretch/>
        </p:blipFill>
        <p:spPr>
          <a:xfrm>
            <a:off x="579600" y="1170000"/>
            <a:ext cx="4187520" cy="1128600"/>
          </a:xfrm>
          <a:prstGeom prst="rect">
            <a:avLst/>
          </a:prstGeom>
          <a:ln w="0">
            <a:noFill/>
          </a:ln>
        </p:spPr>
      </p:pic>
      <p:sp>
        <p:nvSpPr>
          <p:cNvPr id="359" name="Smiley Face 4"/>
          <p:cNvSpPr/>
          <p:nvPr/>
        </p:nvSpPr>
        <p:spPr>
          <a:xfrm>
            <a:off x="1676520" y="2590920"/>
            <a:ext cx="1143000" cy="1143000"/>
          </a:xfrm>
          <a:prstGeom prst="smileyFace">
            <a:avLst>
              <a:gd name="adj" fmla="val 928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657240" y="31240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THE END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08:55:36Z</dcterms:created>
  <dc:creator>Asiri Rathnayake</dc:creator>
  <dc:description/>
  <dc:language>en-US</dc:language>
  <cp:lastModifiedBy>Asiri Rathnayake</cp:lastModifiedBy>
  <dcterms:modified xsi:type="dcterms:W3CDTF">2009-01-06T09:18:00Z</dcterms:modified>
  <cp:revision>15</cp:revision>
  <dc:subject/>
  <dc:title>Slide 1</dc:title>
</cp:coreProperties>
</file>