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998B-A634-4388-BD09-31BB03388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10A4-AD82-46F4-9F9F-A6E50A4AA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1168-CC12-4137-84AA-4E5E7043D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1F14-B3CA-49AA-9EA9-37D598148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4D138-7AB9-493F-AA31-3E4843709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3B2B2-3539-447D-BB8A-C59000823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5D113-3BBA-42AC-90EB-B5F2EB053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8F2C9-C86E-4418-94D4-5914CA69D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50396-BAB5-43DB-B056-DE9C27BFF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A8E9E-39BD-49DC-A36F-F4BF9FB1E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9AB45-FF67-486A-95CE-871972368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278F-EC96-4E89-9CA6-323B3EE64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658B4-8C3A-4312-8C2B-DFB702825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6F482-A6BE-4355-8217-6748C5D21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9FD32-4957-485C-AFAF-FBC032013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CADA8-E307-4BD0-AEFE-01BC3D423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B72E0-9638-402D-A0E9-BEAC59612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2EC54A-F0B1-43BB-AB90-C97E60FBD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84518B-9AE3-49D4-9076-4D209182A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C54CCB-4289-45AB-A1BB-B0E2FE80E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7866DE-F8BD-44AF-86E6-F2C2251D3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CCCBA5-8E48-4479-B2D9-63E1BBD73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273A-4DF7-4A3D-A04A-75F52E13B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C355DF-067B-4ECE-A0C3-577728306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D126F5-543D-439F-8EEF-733FB0BC8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913A6B-9408-487F-99AD-99B5B069A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D14581-19E4-4584-AE18-50EFC203C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9A70BF-C5E7-44D1-BB50-4EB7FD407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650FEE-B945-42D1-A9AC-2F6BDA443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4EF961-03C0-4F40-B961-89EDE8B05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8E9720-946C-4F01-86AB-3151B8AF7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7BBD68-D6CB-4EF5-9346-9C1B5EE39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5A0852-3971-495B-80D2-AD3A84CAC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4C02-D5E5-439B-97A4-49D2F35DE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DBB928-05B4-4BFA-AC7E-D742C8464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C82007-5465-46DF-AA34-CD9A55BE7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9D8B81-9AE9-463B-914D-1F712A823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AC87D7-5DB2-4DDE-9FC3-B21668AF2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B2794B-03E8-4742-8623-A86E0D12D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6C5167-1257-4F0C-ACDC-359721BF7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0A06CF-1244-4D7D-BB3F-C05DBDB22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754F1A-4EA5-43FB-A1AA-EBFDAE715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898954-9697-43D0-8741-E9D36A8E3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319CCA-A500-4D11-BF7F-504F96B6D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1414-6F53-4D0F-88B1-BE9F1DACD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4C2FA0-DE98-4EBC-84BC-CF46EB839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2E2F702-9EB1-43B8-8D54-D37486DDB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231326-94D1-43BF-A844-A16427E36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F03A09-6461-437E-82D7-0C2869FBE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BFB9A9-A065-4B23-9F15-33199802C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97D7D7-8E7A-469E-8EA2-B60159A35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2B6052-62BD-4421-8C7F-8B23EE18D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9E7CD0-55FA-4A45-B5AC-A2B5B2865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0A04CF-60C5-44D6-9B32-EAB1884A9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34D667-1BAF-4D80-9077-FCD144C3E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F513-964B-4080-A7CC-922B3F68C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CFA3F9-A91D-442E-9A8D-9DDEE9A67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BBD3065-58B6-41A9-9309-A69FED3B3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D3666A-B9EE-4347-AD82-5AD39E71F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E30C3F-276A-46AE-B184-FA32F7656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D09A861-1E39-4BD4-A022-420D0105F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10A18B0-56DD-4F2F-9FFA-DA45A4A2E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73F6780-F3E7-4C90-BC59-F2FC81A3C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249719-C9F9-4E74-9FD0-544D1B841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2E767DF-91A3-45BA-BF4D-82085E7CF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0A4EB17-FEA4-4998-9B88-A119570E8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E7B3-3C36-4846-99F1-6D8BBEEB7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BA1DF35-C95C-4ABC-847D-11BE3B625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E014AB5-C187-421C-95E9-B4CD72525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98DFB59-D194-418B-902B-EFA9197A5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2F1739F-EA6F-4D7C-9D0F-090E511D5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4CB133D-9888-493C-9740-32CD3B0D4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BFD0189-8292-4742-BE8B-D67B45655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7C26597-101A-48BF-A738-AF31578B1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D9176E2-4880-4BC7-9A48-025C5BA6C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10C7575-DC9F-4D5C-831D-2747398B2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80A8B85-6231-411F-BF65-B20F8304F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CFC0-AC4D-4F33-A1B9-7C8C5E4CE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576BEBF-A243-4053-BA5A-75A2F1B37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51C3C58-7F32-4730-846C-08B88BA26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A1A2550-10C1-4F06-B818-533F63706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66785EF-C7BE-4849-BAD0-321B5766C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A259FF8-9A24-4CAD-A15C-7AD9E0685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C356-256A-47E6-A0E2-EDFDD34F3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EE5BF-F142-4D7F-9829-C4FF4A66E79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5BF1D-379B-4463-B10F-3E5F3A521CF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733D8-4BC1-4A12-9386-60A34ED8E04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6C86E-AE93-427C-8CD3-2362D394CA9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BF91F-1C80-4F00-96CC-24585E82D16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F8218-30AB-44B6-9A1E-4B15A6ADB0A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B0CB4-EC75-462C-95AC-564E650D336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5345280"/>
            <a:ext cx="6172200" cy="52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XWIKI OFFICE IMPORTER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943240"/>
            <a:ext cx="61722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- Asiri Rathnayak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NTRODU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990360"/>
            <a:ext cx="7467480" cy="54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1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2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pecial Characters :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™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∑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µ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±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5" name="Picture 3" descr="linux-logo.png"/>
          <p:cNvPicPr/>
          <p:nvPr/>
        </p:nvPicPr>
        <p:blipFill>
          <a:blip r:embed="rId1"/>
          <a:stretch/>
        </p:blipFill>
        <p:spPr>
          <a:xfrm>
            <a:off x="1066680" y="32004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TUFF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914040"/>
            <a:ext cx="7467480" cy="55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ordAr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hap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d more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Rectangle 3" descr=""/>
          <p:cNvPicPr/>
          <p:nvPr/>
        </p:nvPicPr>
        <p:blipFill>
          <a:blip r:embed="rId1"/>
          <a:stretch/>
        </p:blipFill>
        <p:spPr>
          <a:xfrm>
            <a:off x="579600" y="1170000"/>
            <a:ext cx="4187520" cy="1128600"/>
          </a:xfrm>
          <a:prstGeom prst="rect">
            <a:avLst/>
          </a:prstGeom>
          <a:ln w="0">
            <a:noFill/>
          </a:ln>
        </p:spPr>
      </p:pic>
      <p:sp>
        <p:nvSpPr>
          <p:cNvPr id="359" name="Smiley Face 4"/>
          <p:cNvSpPr/>
          <p:nvPr/>
        </p:nvSpPr>
        <p:spPr>
          <a:xfrm>
            <a:off x="1676520" y="2590920"/>
            <a:ext cx="1143000" cy="1143000"/>
          </a:xfrm>
          <a:prstGeom prst="smileyFace">
            <a:avLst>
              <a:gd name="adj" fmla="val 928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657240" y="31240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THE END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08:55:36Z</dcterms:created>
  <dc:creator>Asiri Rathnayake</dc:creator>
  <dc:description/>
  <dc:language>en-US</dc:language>
  <cp:lastModifiedBy>Asiri Rathnayake</cp:lastModifiedBy>
  <dcterms:modified xsi:type="dcterms:W3CDTF">2009-01-06T09:18:00Z</dcterms:modified>
  <cp:revision>15</cp:revision>
  <dc:subject/>
  <dc:title>Slide 1</dc:title>
</cp:coreProperties>
</file>