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F77BB-C898-412E-89F5-239FEFA70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29FC9-593D-49A1-9A4D-9AB141EA5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A19E5-6C0D-4006-8C16-631CEE2C6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938E1-F426-4CC6-967C-4347D7261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9E87B-98D4-4F5F-9A28-E60D3E781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DC55C-6E6E-4EDD-A56B-03512DACC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8DEF5-B7BD-4021-8E38-A7F066361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294B8-7608-43A4-8187-2DEF96B7C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D17AA-5CDD-4B46-A546-6D3F0FECA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4F6AC-9C2A-4045-ACE7-F98B6CD0F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0050D-D834-4C2F-9E28-158F3B19E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473BD-9706-4FBC-8135-9F99A4DFE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2EE40-77D3-40E0-AB17-5924D3531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3F3A4-DE95-4E33-885C-13250A344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7FBA8-12C8-44E9-BD07-2C5C9D093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45097-C1FD-427B-8831-F35BBC02F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B46A4-36B5-494D-8ED1-38AEF663E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713B2C6-55A3-4EE6-B238-25A35655F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9856642-1316-4548-9502-7D472B57E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E33A3AE-DD4A-4BDE-9F45-ABC3E76FA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D2433DC-ECF1-424A-96D8-83D14D91C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FC9F3D6-0661-4A80-9408-72142251B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04379-4F27-4BD3-BA8E-18249707A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975C854-42D8-4449-93E4-1BAEF1DC5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C7CEFD5-5660-4749-9269-F916207F4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197997-386C-4784-9B01-D9BE00E4E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5E9BF0-4AE1-4822-89E7-5F3ACADE8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9655477-D445-4D99-8258-F059CA940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E8F5458-C9E4-4B28-BE9A-8A8F24252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B01CA5F-5596-4028-BC67-EAF125B4F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FB253C-D2CD-46CF-B972-8BE6D205B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C96077-52E2-4A3C-8DCF-58739BAF7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BD3E96-03AB-4A1C-9428-72D488FA2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29105-B960-4A58-A81D-E82C509BD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BD5D48-E22F-4CF4-9AE7-FF6FE6E93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C8B9EE-E615-4F24-8129-4D4C9E760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3F3E89-F830-4B0C-BD42-5CC614907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182B07-F968-4689-BDD7-9735EF2B0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5DDCC5-34BE-4B60-A363-B870D4222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63CB6D-95D3-44A0-BF81-B886C493C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4F7079-9ED8-46C6-933A-315D1A9D2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9940B3-F3C3-46B7-96A5-4DC9DFFEC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078F5D-3947-47AB-AD76-424C7C1B8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13D6229-C33A-4E2B-A0BB-35CFE6ADE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29CAB-126E-467E-A73B-FEFD6622E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B82E200-D55B-4F6B-885D-A88A1E16C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E4A48C0-0D25-43AA-9785-82911918C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B435B3C-99F8-4096-96FE-81FAE44E6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A3F8B4B-F6B6-4B7D-BF75-905FA83A2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A45737C-AC97-4D6E-A7A2-D16B8BEE3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2792EDC-7009-49CC-9E8A-518B0FA5C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9298EC4-851F-433B-80B6-2AEC4C008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5CF6979-FB3D-4535-BD33-490028874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6D2A2E4-1CF4-4343-8EB3-E4B17350D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2653D48-9025-4BA3-84DD-CBC942902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195FF-09C0-4CF0-84A7-F069226F0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8936D16-AD35-499B-8793-52FFAE549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953F8DD-0F36-4F62-8CFC-B626C54CC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D2E649E-27FC-4E4C-8CB1-7BA69AA1B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C3FA33E-DAE5-4008-B533-B295D821B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FCA9554-9D51-43A6-A057-E4A3EA1D3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3E5BDB7-6EF9-42C4-9BC4-B0B995A60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3EC4AAA-10DE-4D0C-851E-06FE60211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8411C6E-791C-4787-ADF7-ED7BBB3F9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DADAEA0-FCCB-4DA7-B967-37F47C1ED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F5FDF75-261C-4B32-987B-9B7123717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95855-9E2E-470D-B414-CC49F3881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233E46A-E19D-455F-A2CD-87AF1D674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5A69AE9-D054-48EA-8BC5-29AAB78B2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757F38A-E18A-4687-87C1-2CA3012A9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EEE2DB6-7918-40BD-AB71-74F4B8E8C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4D5407E-83BF-4F8F-9365-EA7EE2455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F65C9A1-7FEF-4BE4-997B-6A439736B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DE301DE-A9BF-41E8-8121-DDA29AF0A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A829ABC-5025-40F6-A31B-ED95E522E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8425FE2-D986-4E9A-8DEE-4B5A65DEF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8D1DDEF-0ED0-4683-A723-05F5CC64A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31EB6-378F-4FFB-8FF5-FF8C3025C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07E7767-12AF-4F5E-9891-904884EA4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35AF1B1-71D2-491B-956C-9A3B53118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84C753B-5C08-4496-B77D-ABCF20721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DD5BC27-2CBB-41D8-8B77-78270FA47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0B47E88-CB9E-4DF4-B619-EEBAF7893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E4703-17FA-4F63-834E-4D5883BBE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00640-D7A3-4CC0-BFFD-776F85E1C5AF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Straight Connector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Rectangle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Oval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Oval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Oval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Oval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F2D8B-617D-49EB-BEEE-DE0F88651D26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AF19A-59B5-4805-BD9B-EF62C2BC0D5C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Oval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Oval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Oval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Straight Connector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57B27-7E24-4237-A049-67209E49E881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5EE6C-2E54-4A8E-A7F3-6599C908BC2E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Straight Connector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Straight Connector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Straight Connector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Rectangle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Straight Connector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Oval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6F707-2A72-4AEE-A65D-BDFBDB2C7A7A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Oval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Straight Connector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Straight Connector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0C72F-7A1D-41FE-B2E8-A36441AD8AE8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5345280"/>
            <a:ext cx="6172200" cy="52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575f6d"/>
                </a:solidFill>
                <a:latin typeface="Century Schoolbook"/>
              </a:rPr>
              <a:t>XWIKI OFFICE IMPORTER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943240"/>
            <a:ext cx="61722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- Asiri Rathnayake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INTRODUCTIO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6840" y="990360"/>
            <a:ext cx="7467480" cy="54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1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ub point – 1.1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ub point – 1.2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2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3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pecial Characters :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β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™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®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∑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Ω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∞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≥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µ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≠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±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5" name="Picture 3" descr="linux-logo.png"/>
          <p:cNvPicPr/>
          <p:nvPr/>
        </p:nvPicPr>
        <p:blipFill>
          <a:blip r:embed="rId1"/>
          <a:stretch/>
        </p:blipFill>
        <p:spPr>
          <a:xfrm>
            <a:off x="1066680" y="320040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STUFF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6840" y="914040"/>
            <a:ext cx="7467480" cy="55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ordAr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hap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nd more…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8" name="Rectangle 3" descr=""/>
          <p:cNvPicPr/>
          <p:nvPr/>
        </p:nvPicPr>
        <p:blipFill>
          <a:blip r:embed="rId1"/>
          <a:stretch/>
        </p:blipFill>
        <p:spPr>
          <a:xfrm>
            <a:off x="579600" y="1170000"/>
            <a:ext cx="4187520" cy="1128600"/>
          </a:xfrm>
          <a:prstGeom prst="rect">
            <a:avLst/>
          </a:prstGeom>
          <a:ln w="0">
            <a:noFill/>
          </a:ln>
        </p:spPr>
      </p:pic>
      <p:sp>
        <p:nvSpPr>
          <p:cNvPr id="359" name="Smiley Face 4"/>
          <p:cNvSpPr/>
          <p:nvPr/>
        </p:nvSpPr>
        <p:spPr>
          <a:xfrm>
            <a:off x="1676520" y="2590920"/>
            <a:ext cx="1143000" cy="1143000"/>
          </a:xfrm>
          <a:prstGeom prst="smileyFace">
            <a:avLst>
              <a:gd name="adj" fmla="val 9282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657240" y="3124080"/>
            <a:ext cx="1676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THE END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6T08:55:36Z</dcterms:created>
  <dc:creator>Asiri Rathnayake</dc:creator>
  <dc:description/>
  <dc:language>en-US</dc:language>
  <cp:lastModifiedBy>Asiri Rathnayake</cp:lastModifiedBy>
  <dcterms:modified xsi:type="dcterms:W3CDTF">2009-01-06T09:18:00Z</dcterms:modified>
  <cp:revision>15</cp:revision>
  <dc:subject/>
  <dc:title>Slide 1</dc:title>
</cp:coreProperties>
</file>