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99725-5642-4865-A831-71E0F9A2A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151C4-A212-4B9F-959B-46EE95BD3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64818-FAD1-4F2A-9804-7E5670A29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C9D0D-26BA-4553-AA02-E659F7621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5DA9C-3378-4A72-BCEF-A16619FAB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DF890-0AAF-4060-BFD4-103C83ABA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6FEDF-AED4-40C2-B1C7-D0631F43A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2C960-8627-455F-8449-2AAD7044D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403C6-719E-4D86-9ABA-6D124A905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187B4-E1F4-4601-913F-B2E64B831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21792-E1E1-4A11-98B5-9F37C5D78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9F44F-D9CC-4815-B47F-BFA6782CE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23F76-F6D9-4849-BDA0-68396B51C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25A60-C3FC-4168-9145-BEE41727E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30A45-8233-414E-90DA-6A1F2F86C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C41E9-ACA8-4754-A3A4-D3354FA0B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F0157-9103-4EFB-949C-385F99679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E4449F7-0CBA-4DD0-9795-A946D6C87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774DF83-BC76-4127-938C-63B98C0A6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BA1E2ED-65FC-4C9A-B3B5-2D109A597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CF4D792-D8C4-43ED-B4B1-2A78ED9A9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460DCA9-5DEB-445E-9FA9-95B0F57ED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94944-3E27-4FDF-AFD1-70B8C95BA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BD1481-7B86-4679-AD9B-FD66B9712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85E6415-9D48-47BF-8B8B-916E70325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2175589-0583-4301-8868-17DAC3E0A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FACC4D0-CCE3-45EF-8E1A-6F03C3B11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7AD8CA3-3A72-4642-8FB9-A77D18063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D1FD92C-0FFD-4D30-B506-87313E6DD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1468C76-485C-492A-94FD-C89DC9F2B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B492F6-726D-4050-BAE5-A082131D5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8FCBE4-C081-4BFE-8B30-4554DD603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93A707-D871-454D-B2FB-481B1DA1B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58712-3D71-4B7B-A721-3EEC0EC18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63D236-0E9F-4EE1-B2B7-A91084603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C93BE1-6ABE-4D4E-9B55-6FDDF4127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7BDFF0-60E3-47F0-9717-70D741800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486342-0DE2-4DF7-8BB7-83A434615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9F0EA8-5E6F-4402-9BDC-CBF30DAAF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27D450-D9AF-457C-AD7A-E5D6C69C3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23163B-CFDE-4158-B1C1-57A0F110C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C889FC-ACD0-4B3D-9776-1D01AA942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6F82B1-0D49-41AC-AB76-F340D16DF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90A7335-4CDA-44EB-84CF-82D29353B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835FB-C075-4739-BE3F-37C35DA73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7351A54-446E-4AB2-BA3C-B29A7238C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E53809D-E43F-4CD8-B32F-603E33F94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4494442-73B3-47CE-BF51-BF60E9CFA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B49B9CF-A892-48FE-A13C-A23C59F63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A896FD4-03D1-4293-9DEC-755C7DBC7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E4460A8-BCBF-49AE-918E-BCEE97615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8B2C7F9-F07F-45BA-A05B-D629F45E3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BF7C397-457C-4640-8C44-6FD4F84CF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F4A9F5B-9FA3-4D20-9FB0-4ABA78F59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FCDB399-CADE-4550-92D8-392F11391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9E45E-8B12-407A-A3F5-CA83C9B33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C402760-16CD-4813-A16F-1391AF3CB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478872C-AEC6-4620-B286-925B5E47B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18A8083-9AF9-44D7-B030-AC25F61C9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0D130CC-ADA4-46BA-8F16-14F9C5CBD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B98E442-C4A7-48EF-B0BF-692FB555B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820B8FF-C3B8-4B9F-B39B-6671956A7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EF5E599-67B6-4928-98D9-809D18EA7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91FCEA8-1325-4860-B6BD-4D240117A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DBC1CC6-C4FE-4949-8808-3F749496F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EAD3F9B-49FC-43C1-A8FD-5EAD016D4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D4CA4-9681-40DE-9260-51637BD1E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75BC4EB-5F0C-4435-86DA-EEE6BAFDF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53C0714-9F68-4CA9-B920-6CB332368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6F69912-D8CC-40D3-AC12-05656F1BD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4FE4091-77AD-4471-A675-A479FCAAB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3958A83-9FA4-4EC1-B216-B1B128B26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3F68580-C2B8-43ED-BAC0-6C2CF7FDC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5EE2ACE-9125-4338-A69F-F33745220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ECB2A0D-8658-4E2C-9B41-E1A889A40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FA7631A-96EA-4F19-8077-05FD99D6E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6F03744-96F7-4C80-9E10-D336634B3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115E2-3A99-4F9B-A258-CC2226E99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0BF1644-F438-4FB5-BD6C-F51E8A8C6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169FEF1-F895-4F28-A92F-1DC5C299F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392CF19-098A-4B30-AA9B-10A49A83D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BF8EE3D-8213-49F4-9C50-20D41A006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D19E68A-8131-4A02-BFC3-A7120B587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48887-7C4C-4BF7-B701-0325BD331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DE3FE-A5A0-48AB-8B0F-9933A259DF10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Straight Connector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Rectangle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Oval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Oval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Oval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Oval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D6357-4F1D-4917-B9FD-7EB34146FCB7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CD124-AC2C-4A58-AAC4-B5C1E61DFC97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Oval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Oval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Oval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Straight Connector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79579-07D3-45DE-B1FA-ECA813E8B0E3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F2529-5984-4D0D-B5F9-C02EF3CD679E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Straight Connector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Straight Connector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Straight Connector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Rectangle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Straight Connector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Oval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69F54-8A6E-4D16-8C87-3E4CFA667657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Oval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Straight Connector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Straight Connector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D0A0B-6A03-47BB-8AC6-4FF70DCD4EFD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5345280"/>
            <a:ext cx="6172200" cy="52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575f6d"/>
                </a:solidFill>
                <a:latin typeface="Century Schoolbook"/>
              </a:rPr>
              <a:t>XWIKI OFFICE IMPORTER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943240"/>
            <a:ext cx="61722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- Asiri Rathnayake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INTRODUCTIO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6840" y="990360"/>
            <a:ext cx="7467480" cy="54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1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ub point – 1.1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ub point – 1.2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2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3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pecial Characters :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β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™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®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∑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Ω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∞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≥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µ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≠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±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5" name="Picture 3" descr="linux-logo.png"/>
          <p:cNvPicPr/>
          <p:nvPr/>
        </p:nvPicPr>
        <p:blipFill>
          <a:blip r:embed="rId1"/>
          <a:stretch/>
        </p:blipFill>
        <p:spPr>
          <a:xfrm>
            <a:off x="1066680" y="320040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STUFF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6840" y="914040"/>
            <a:ext cx="7467480" cy="55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ordAr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hap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nd more…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8" name="Rectangle 3" descr=""/>
          <p:cNvPicPr/>
          <p:nvPr/>
        </p:nvPicPr>
        <p:blipFill>
          <a:blip r:embed="rId1"/>
          <a:stretch/>
        </p:blipFill>
        <p:spPr>
          <a:xfrm>
            <a:off x="579600" y="1170000"/>
            <a:ext cx="4187520" cy="1128600"/>
          </a:xfrm>
          <a:prstGeom prst="rect">
            <a:avLst/>
          </a:prstGeom>
          <a:ln w="0">
            <a:noFill/>
          </a:ln>
        </p:spPr>
      </p:pic>
      <p:sp>
        <p:nvSpPr>
          <p:cNvPr id="359" name="Smiley Face 4"/>
          <p:cNvSpPr/>
          <p:nvPr/>
        </p:nvSpPr>
        <p:spPr>
          <a:xfrm>
            <a:off x="1676520" y="2590920"/>
            <a:ext cx="1143000" cy="1143000"/>
          </a:xfrm>
          <a:prstGeom prst="smileyFace">
            <a:avLst>
              <a:gd name="adj" fmla="val 9282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657240" y="3124080"/>
            <a:ext cx="1676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THE END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6T08:55:36Z</dcterms:created>
  <dc:creator>Asiri Rathnayake</dc:creator>
  <dc:description/>
  <dc:language>en-US</dc:language>
  <cp:lastModifiedBy>Asiri Rathnayake</cp:lastModifiedBy>
  <dcterms:modified xsi:type="dcterms:W3CDTF">2009-01-06T09:18:00Z</dcterms:modified>
  <cp:revision>15</cp:revision>
  <dc:subject/>
  <dc:title>Slide 1</dc:title>
</cp:coreProperties>
</file>