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A793D-4B73-40F0-9E48-8FD4F0D8F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1689E-DDD9-4EC8-9AF9-061013907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8693A-2A49-4261-A8C7-516DFE220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4B9C4-208A-421C-83EB-DE8BEC89E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22F36-7CE7-445A-B1EA-9CA6BB51D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11164-4D75-4EE8-9914-732AFC9E3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C6AEF-762F-418F-B75E-C121CB072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96EC8-07DE-4078-A039-A38AC793B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8A93C-F223-46B0-BCBD-9BCE012FC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4CD01-3FA3-4A54-9EC1-DD99699F9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66A15-9049-4B2A-8DEE-5C4FC5CEE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16C41-0ECD-4E5A-B490-06F4AC815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F2E7A-47A3-4AB9-876F-4FDCC22FD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8C7AE-BD08-41C7-8139-9F7BCDD64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4AA5C-3D49-44C8-B9F7-D4AD68602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94C62-D623-4612-BDE8-7ADF2838B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47A53-5870-48BE-B3A6-57A060761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701E17C-2029-4603-80F9-98920353B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6BC0459-D085-4059-8E4F-F3644DBB9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8A6CBF-570C-4954-8A9B-3405301C7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BF16AF6-EDFF-4546-BB03-0F171D82D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F7D7189-2E04-486D-B520-327A61A22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7BCCF-C733-4019-9DA3-DAA5AD190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7B4CE79-A992-452F-9AB3-134F7F38B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5D7ECD2-6D2E-4424-85F8-9A7735B6B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FF9063D-AF10-4C5D-9CFD-513F6C5C4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7377A05-01DF-428F-A364-86FEABD0A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0DB6079-29C8-4980-84BB-B0AF3E5DA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AFC0418-7D92-4A38-A356-FB3D6685A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F89B8D-1AE6-4D99-9B8F-C9A21A48E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8888BB-98BA-4904-B0F6-AE39F5041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020E65-ABFC-405F-98B4-FCEE9D3A4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0D6F16-80E8-48A6-95F6-ED3DBED4A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765ED-BE97-4DBB-9554-DE2C1E767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A76972-982D-462D-8285-D042729E3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08CE9C-C2D4-4904-B1A4-6E90C6C92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0DB6BA-9BD9-47F7-82D7-9F7514DAC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DF96C5-634A-434D-9ED3-336634E84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77C010-A41A-4697-86C5-7FDA942DB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0E053F-1392-4E66-9E89-E9AC96BC5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DF5336-F3DB-4205-BF05-D004A3120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5F382A-55F3-4989-8B5F-2E1A77AAF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68FFDD-D6A1-4E0E-86D0-166DCE40B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C0034AF-7D2B-4B63-9F59-94EF6E565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CA8D5-FCE2-4CD0-AA2C-3AE436671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9017148-E0A9-467C-A065-C703E8C47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78DA39E-DAEF-47F3-B337-DA812376C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CBFCEC2-9986-492E-A259-C59661478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AA592E6-6C27-47E9-8B80-A577DA38B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3FD10FD-FE70-4907-BDDA-6C33323BE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8F7E055-BF6F-4C2C-9D28-66DED1225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7D500AE-5A6B-410C-99A1-D36EB556F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BC99C7B-345E-499A-89D4-54E899383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7A66110-28E9-4C30-9FC6-585DFEA91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049E293-472C-406C-B3FF-76363DBEE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3ED7E-B8B3-48C3-9E44-40917CFEC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B1D3CCB-B9C5-49FC-A9A1-7E428DEF6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EC26D6B-C2EC-43CD-85C5-3A523FF47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A4EC957-47E2-4345-A5B0-0CF3509C4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ED17954-2A2A-465B-8A2A-707268975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C779F4F-67B2-4C63-8611-E788460B6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9359803-2E5B-4D8F-899C-42354F019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1CB0D34-30B8-41DE-BA8D-F296D8F29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E62BD70-971D-4A73-850F-CD42F7738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655C56D-2E0B-435C-BA15-B6F46CE1E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2796E0A-9C16-4F62-A3C6-1C55261ED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8B20F-9A07-4CE2-9EA7-7A83F5B38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C74B8F4-A60C-46C5-87D8-242F46A04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6D429E0-A00B-4863-AC4D-83D7B1ACB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EC7117F-A7D9-41A6-91FE-BF038507B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84D4B92-8D69-47F0-97AF-7C2781A9A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5936788-5389-411F-8D23-1C5D593C4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30686BE-83DB-4F5A-B337-4A752F992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E7B7EC6-F0CB-418F-87D7-F09CAA352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A581373-A03F-4FE7-A3AB-1C1E4F635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0D33C4B-2E12-4AA9-895D-258583F99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9868B7C-B434-4C55-84EC-4E48D3146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3188B-0B94-42A2-96A9-C6FC0AE36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1CA3E92-F42A-46E5-820D-FA42E8E60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5736941-3E2B-4D92-8AB1-4CD1564D6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B0420B0-6A80-4317-9CC9-4EED2F329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CA523C8-6393-4864-B88A-28439E119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1A95523-E605-4CCF-A1C7-DF705CFB3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F2186-ACB8-4A98-9F4D-624F45A00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34A02-041A-4FE2-95D8-B4E1E0593D67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Straight Connector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Rectangle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Oval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Oval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Oval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Oval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6ADC4-99A3-47D3-84DD-EBA56ABA2C29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E494A-B4EE-4E65-BD56-D5D8851853B4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Oval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Oval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Oval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Straight Connector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D3570-BF83-42F9-A969-058637D71BD8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C0E21-A8FC-42EF-8CE2-43D77E98F713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Straight Connector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Straight Connector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Straight Connector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Rectangle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Straight Connector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Oval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2D898-662C-473A-815A-E30AB78EF1FD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Oval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Straight Connector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Straight Connector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A5577-6E28-4386-9602-4ECCC13D9843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5345280"/>
            <a:ext cx="6172200" cy="52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575f6d"/>
                </a:solidFill>
                <a:latin typeface="Century Schoolbook"/>
              </a:rPr>
              <a:t>XWIKI OFFICE IMPORTER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943240"/>
            <a:ext cx="61722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- Asiri Rathnayake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INTRODUCTIO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6840" y="990360"/>
            <a:ext cx="7467480" cy="54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1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ub point – 1.1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ub point – 1.2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2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3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pecial Characters :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β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™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®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∑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Ω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∞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≥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µ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≠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±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5" name="Picture 3" descr="linux-logo.png"/>
          <p:cNvPicPr/>
          <p:nvPr/>
        </p:nvPicPr>
        <p:blipFill>
          <a:blip r:embed="rId1"/>
          <a:stretch/>
        </p:blipFill>
        <p:spPr>
          <a:xfrm>
            <a:off x="1066680" y="320040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STUFF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6840" y="914040"/>
            <a:ext cx="7467480" cy="55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ordAr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hap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nd more…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8" name="Rectangle 3" descr=""/>
          <p:cNvPicPr/>
          <p:nvPr/>
        </p:nvPicPr>
        <p:blipFill>
          <a:blip r:embed="rId1"/>
          <a:stretch/>
        </p:blipFill>
        <p:spPr>
          <a:xfrm>
            <a:off x="579600" y="1170000"/>
            <a:ext cx="4187520" cy="1128600"/>
          </a:xfrm>
          <a:prstGeom prst="rect">
            <a:avLst/>
          </a:prstGeom>
          <a:ln w="0">
            <a:noFill/>
          </a:ln>
        </p:spPr>
      </p:pic>
      <p:sp>
        <p:nvSpPr>
          <p:cNvPr id="359" name="Smiley Face 4"/>
          <p:cNvSpPr/>
          <p:nvPr/>
        </p:nvSpPr>
        <p:spPr>
          <a:xfrm>
            <a:off x="1676520" y="2590920"/>
            <a:ext cx="1143000" cy="1143000"/>
          </a:xfrm>
          <a:prstGeom prst="smileyFace">
            <a:avLst>
              <a:gd name="adj" fmla="val 9282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657240" y="3124080"/>
            <a:ext cx="1676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THE END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6T08:55:36Z</dcterms:created>
  <dc:creator>Asiri Rathnayake</dc:creator>
  <dc:description/>
  <dc:language>en-US</dc:language>
  <cp:lastModifiedBy>Asiri Rathnayake</cp:lastModifiedBy>
  <dcterms:modified xsi:type="dcterms:W3CDTF">2009-01-06T09:18:00Z</dcterms:modified>
  <cp:revision>15</cp:revision>
  <dc:subject/>
  <dc:title>Slide 1</dc:title>
</cp:coreProperties>
</file>