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7ABA-FC3F-4AEA-A1CA-9E02B9140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1A93-82A1-426B-961B-1FA53CF44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2E01-D1D2-446C-BFD4-CFA0CAB9E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1183-4628-4FFA-BEC6-D26546B7E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A3D32-60B3-4683-ACF6-4EA9B2BE1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D3B3C-2AC9-4295-91B6-104D5E0C4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4A2F7-08AE-4FE0-9851-0F3C951AC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FF1FA-B591-487D-907F-379A026B0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5483D-BE28-476E-8C47-F245557AE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477C7-17D8-47F7-8F2B-FA331AADE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8664B-B38C-4786-861F-B217C45D0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07D6-A9F2-42DA-8268-BCAEC377B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C9B4A-818E-4E2A-8CE1-0F098B010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56B8F-9E11-43AF-A6C4-391109FC8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24CC0-4C99-40DE-888D-E7A18481A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DEC8C-978A-4139-8FF0-765AB82C1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2B581-B4C1-4A31-AC82-97722A3BA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75ABEE-3BCC-47AD-9FDE-9CAE03575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5FF822-FB5D-4892-A518-CBEF72A95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E7FB27-4BCB-4244-9A19-C355A0E32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6021E3-F72A-47B3-842E-1E86B451E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9783FB-3E4A-4749-9350-C62CCA95D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F204-1220-4331-A8C6-5ED219535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B96853-5DAF-408F-839C-0ACA0C264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1E9413-1DF4-46C4-9B39-4FE07D616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205B89-47AE-4EBD-A2A4-DA44A959A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4F8C77-78B3-429F-9419-304553597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593AA7-0FE6-40D5-AD14-C7C55D164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F4E57F-A9ED-4074-B435-A1A1808AF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9EF174-52BA-4F9A-B687-F3D83A577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656459-F960-4916-BCE3-EDC5D2C6F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8B048C-B92E-4A6F-9ECA-D57304C68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59E194-FF04-42DF-A1A1-B7D1A241C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463B-A4DF-4215-90B2-52E0393C0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E6BB34-ADE5-4400-8F3F-C599D51C0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12D9DE-4DDE-49E3-9BDC-3C95F69E7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F02C2B-7BEA-481A-AC09-ECCD02872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592B5D-33D0-4DA1-889E-2330AF2F5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35D0A3-A86E-4CF6-9172-FB38678E9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4AA2F3-0E59-411C-8145-7927F5A45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5FA074-42DC-4AC7-AB72-5FE86A483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C94DA5-6A6B-4435-A00A-B116A3013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4CE42C-157B-4B6D-A7A6-C79A4C6E7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AF95DD-21F7-4A6A-9AFE-F6EC10B4B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462E-69FE-4207-9572-160B02055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6A446E-E0AF-4297-ACBC-521E3B5B1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DADB46-8A94-42F0-B019-C322A1080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B73AA8-6A99-4EB5-9B15-9CD2AA0EB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5E214F-C0B9-44C3-92EE-7B80B9675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B8E464-03C4-480A-9E60-B1B03FF11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0FF606-844A-48EF-9E31-05B24717E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02066B-1C59-411B-BA8E-A13CBFD29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554C84-A81D-4085-B8F1-9869A75ED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2CCB11-06C6-43C4-898E-F8CDC9D09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BF811B6-56F7-43B1-91D4-41A3EBE08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078A-2912-4A09-8A30-6A2242900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1BD178-5E88-4ED6-A097-10047B913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97BF201-E251-4923-B12B-3E6492466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16AF8D2-D664-46B1-9D4D-043798940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E36A13D-3F96-411A-94AE-C6301754D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34DEBB3-C2D1-4531-80DB-70573B02F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65376CE-5F3D-4658-B084-452705F71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834AFF8-AC31-44F2-A249-150E26BC7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09D1D25-7B26-435B-B439-38039E7ED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B8E35AF-7FF9-485F-8649-8DCD08637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2101BE2-F7B1-463A-90CB-AF6FB5EA9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8072-87B7-4B76-A569-14672D014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3EE5B4E-2D7D-4D24-BF25-3FE400BA5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B50A3BD-0CFE-4DAA-B8D1-CE155BA7F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30DCCC8-648D-4AF0-8CAC-5D6B6A725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1DD4D82-54E2-46C3-B612-09ED3865F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81D6872-841B-4311-AB2D-1B11401CD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4C07DB7-EBC9-4E62-AAFD-40073E473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B5AD4B2-AB0B-4E76-8155-ECF3E147B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FF791FE-2473-445E-9E40-710691453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F5CED63-9991-4A88-A2ED-19E7476C6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45A2C22-5FB4-469B-8CEE-2EDFC26BD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4E0E-C274-4DB4-B083-209602604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52C8057-D125-4AC6-BF04-CB89CD967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20EB90E-D223-40AC-962B-BF23B8A72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7063C86-DB4D-4500-A39E-C1C1AC162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07ED2B4-B0A1-4E24-9E2B-B2A7BC756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261C3E8-600B-435E-9CB3-82978802A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BEBE-C250-44CB-A363-99D940931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F6274-5F6B-47DA-BEB5-575FBB19880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55154-A5B0-4D12-8C83-85C55F04BAD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A56C3-2F5C-42E1-A0C7-8B99BB63415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64C68-6580-4143-ACAB-302D81F9AB0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528AA-6AFE-46CC-A9A8-68644B21D42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065A0-1A64-4BAA-BBFD-FAD8425D413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6F5DE-7727-450E-9BB1-60CD35CC651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5345280"/>
            <a:ext cx="6172200" cy="52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XWIKI OFFICE IMPORTER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943240"/>
            <a:ext cx="61722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- Asiri Rathnayak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NTRODU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990360"/>
            <a:ext cx="7467480" cy="54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1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2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pecial Characters :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™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∑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µ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±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5" name="Picture 3" descr="linux-logo.png"/>
          <p:cNvPicPr/>
          <p:nvPr/>
        </p:nvPicPr>
        <p:blipFill>
          <a:blip r:embed="rId1"/>
          <a:stretch/>
        </p:blipFill>
        <p:spPr>
          <a:xfrm>
            <a:off x="1066680" y="32004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TUFF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914040"/>
            <a:ext cx="7467480" cy="55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ordAr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hap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d more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Rectangle 3" descr=""/>
          <p:cNvPicPr/>
          <p:nvPr/>
        </p:nvPicPr>
        <p:blipFill>
          <a:blip r:embed="rId1"/>
          <a:stretch/>
        </p:blipFill>
        <p:spPr>
          <a:xfrm>
            <a:off x="579600" y="1170000"/>
            <a:ext cx="4187520" cy="1128600"/>
          </a:xfrm>
          <a:prstGeom prst="rect">
            <a:avLst/>
          </a:prstGeom>
          <a:ln w="0">
            <a:noFill/>
          </a:ln>
        </p:spPr>
      </p:pic>
      <p:sp>
        <p:nvSpPr>
          <p:cNvPr id="359" name="Smiley Face 4"/>
          <p:cNvSpPr/>
          <p:nvPr/>
        </p:nvSpPr>
        <p:spPr>
          <a:xfrm>
            <a:off x="1676520" y="2590920"/>
            <a:ext cx="1143000" cy="1143000"/>
          </a:xfrm>
          <a:prstGeom prst="smileyFace">
            <a:avLst>
              <a:gd name="adj" fmla="val 928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657240" y="31240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THE END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08:55:36Z</dcterms:created>
  <dc:creator>Asiri Rathnayake</dc:creator>
  <dc:description/>
  <dc:language>en-US</dc:language>
  <cp:lastModifiedBy>Asiri Rathnayake</cp:lastModifiedBy>
  <dcterms:modified xsi:type="dcterms:W3CDTF">2009-01-06T09:18:00Z</dcterms:modified>
  <cp:revision>15</cp:revision>
  <dc:subject/>
  <dc:title>Slide 1</dc:title>
</cp:coreProperties>
</file>