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B5861-5398-4429-8E0E-FED2F0357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966B2-F6EB-44F8-A3C9-982A6037B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EF114-D724-4340-8536-9D4B1E5C0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59228-2F98-46AD-B84C-81A02518B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835B0-2A5C-42D3-86F8-EECD04D78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6DFCC-B7BC-483F-8927-640B2F679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61C46-3071-4513-8DAE-7336CD5D7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4D87D-DADC-4BB2-93E4-63082BBB7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2278F-AF4F-4FA0-ABA1-4D603D836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4D55D-853D-4560-8DEB-D5C68CA85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E01FF-5FB2-464B-8369-AACB6C576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C0DE9-A1E3-43DF-BCCE-186835B05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4F414-A8D6-4DB5-8459-8CABD61BC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821F0-14BE-48A0-89D1-EE235DF4C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C309F-9EE1-481C-B947-CCBCEBAB7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A672B-174A-49AB-943E-8D2EC83BB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B0E96-AD81-4B3C-A678-C97B336CD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086E3F1-F014-4B28-9685-D33A81C32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D30EB25-5CD6-43BE-BFFB-2CABBA664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0DFFC3E-7CD7-4125-84FE-9D8F2BB4C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0219ACE-733E-4FD0-9BC8-923757AFF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10F3BD0-689A-4CD5-A013-9D79A2E98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8E09D-65E8-48E9-ABF5-45DAC646D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AD54DA7-150C-4A3E-81D7-DB8F4D418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09366E2-D6C6-43F1-A063-B99B2F929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3F8C206-0979-4893-AFE7-7DBEBA1EB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EAA4B7B-F59B-4464-8BF0-06EE1A5A1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915410E-56F1-4812-94AB-B7C9E1F6F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E17F7C7-2265-41F5-B8AE-ACBE8DF8A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CF99285-0F56-4D11-8F19-A2D10578E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16C4E9-74E7-4A7E-B59D-2659663AD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03DD72-C01B-4A59-B276-E0F300C83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0D999B-6940-48FC-9938-0350CB9F2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C024E-CCB6-4391-A456-21F2E7A8A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A58F71-0037-45ED-91FA-F47B8E27E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58BE0D-4C8C-43D7-8DA7-6F41DF3D0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647407-CEA2-4454-B1B2-4BAE95E63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D7FE39-42B9-4B47-ADFF-5E7657837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159C72-DB2F-4FEA-ABDC-76477D3DE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C30C94-8D16-4A34-9E0F-A3BB80D5C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800FA4-624F-48D5-88A9-066B24D6B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751AC4-9CA3-4AC8-B15C-D5F1231AA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89F575-CFAE-4D3D-9728-62F6F5F54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A779182-402B-47E6-93D4-275529BFA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4DE4D-EDC5-43CB-A598-2B0B6F6C4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81DD5A2-D868-44C3-B826-0B162C586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48915DC-6ED2-4D6E-A028-EC92F3767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3F4F6BE-4157-4921-AE5A-6EA96061E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52CA5BF-A445-499A-B216-9D1EBCEC0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7A7E13A-DF95-4A23-B523-90E0A8766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467AEAA-65C8-418C-B10E-352EE734A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D682D28-C67E-4AB2-A130-6C54E0C82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11DDBEE-2712-48B1-92F1-014624A6E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CD7350D-3C78-440F-95A0-C8C3834F2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75CBDA2-2521-48D4-ABB3-1A053045A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D12EC-EB5D-48D2-9B63-7597B5762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3B60F06-1B2A-496F-9DFA-97F4216D0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892B0A9-7EFC-4BB3-91A5-DACFCC904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D39E4F1-0250-40A1-8905-6D9A72BD5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2816804-6BBF-49F4-ADA6-DBB0ACA84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030911A-9DF6-4AD0-8C06-E27503C30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13DE710-0211-4CDA-89DB-DD07B97A9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31F6BE7-A142-4B86-9DB0-F7FDC4CE8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81683DA-10B3-4049-BF78-6A8FC6E63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DBFAAA6-8227-4611-A523-791FF99A3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523C9AF-50C7-44AC-8C41-0250BCB0A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EDE6D-362E-40B3-A362-5846EBDC3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638CB0D-8C2A-450D-8D66-0332DAF4A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7462BC3-F90F-4B90-B323-B3ED13AE3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16B2C42-89DF-483B-8607-1DE27C49C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092034B-E0F9-4886-8EF7-1DCDD923B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CFA38AC-42C7-418A-A297-AD02BB65E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3689A6B-54F7-488E-89A5-82829BA5F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000CA62-268E-4FBC-BE13-28B8E8398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1CC4FD2-67C2-4BFD-BFFE-21A44556C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04BED78-ECE5-4FA4-81C5-D584697C2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DB6AAE0-432B-4991-BC7F-3075B2C22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C12FC-26A0-4240-A3F5-F40A081CC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79C2D39-B175-45CC-AC61-EF05DF770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DA0E358-E818-4F1E-B2D4-849705720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B516630-0012-48A6-864F-E40C8BFD5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FF9274C-C630-416F-BE99-16576EDB1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0F80394-F1F5-46BC-9A84-CB79163D7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4707D-EC98-4AB4-898E-3DDE0EE14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1A158-C675-40E1-9F51-9B42CBA5404D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Straight Connector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Rectangle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Oval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Oval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Oval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Oval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Oval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E15C5-A4D8-42BE-BED2-DE678C7D3BD3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024D5-15C7-4E6B-9D9C-253C27A7F22E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Oval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Oval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Oval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Straight Connector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22D02-C0A5-4F40-936C-A2E8D282ACF9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0FDFD-C17C-4E03-B67B-31787CC2B54F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Straight Connector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Straight Connector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Straight Connector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Rectangle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Straight Connector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Oval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4887A-6DD9-45A6-BA9E-812584F203FF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Oval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Straight Connector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Straight Connector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DD9CC-44DE-4EA9-80DB-76F714C1A2C2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5640" y="5345280"/>
            <a:ext cx="6172200" cy="52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575f6d"/>
                </a:solidFill>
                <a:latin typeface="Century Schoolbook"/>
              </a:rPr>
              <a:t>XWIKI OFFICE IMPORTER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285640" y="5943240"/>
            <a:ext cx="61722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- Asiri Rathnayake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INTRODUCTIO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56840" y="990360"/>
            <a:ext cx="7467480" cy="54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1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ub point – 1.1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ub point – 1.2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2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3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pecial Characters :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β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™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®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∑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Ω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∞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≥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µ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≠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±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5" name="Picture 3" descr="linux-logo.png"/>
          <p:cNvPicPr/>
          <p:nvPr/>
        </p:nvPicPr>
        <p:blipFill>
          <a:blip r:embed="rId1"/>
          <a:stretch/>
        </p:blipFill>
        <p:spPr>
          <a:xfrm>
            <a:off x="1066680" y="320040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STUFF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56840" y="914040"/>
            <a:ext cx="7467480" cy="55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WordAr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hap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nd more…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8" name="Rectangle 3" descr=""/>
          <p:cNvPicPr/>
          <p:nvPr/>
        </p:nvPicPr>
        <p:blipFill>
          <a:blip r:embed="rId1"/>
          <a:stretch/>
        </p:blipFill>
        <p:spPr>
          <a:xfrm>
            <a:off x="579600" y="1170000"/>
            <a:ext cx="4187520" cy="1128600"/>
          </a:xfrm>
          <a:prstGeom prst="rect">
            <a:avLst/>
          </a:prstGeom>
          <a:ln w="0">
            <a:noFill/>
          </a:ln>
        </p:spPr>
      </p:pic>
      <p:sp>
        <p:nvSpPr>
          <p:cNvPr id="359" name="Smiley Face 4"/>
          <p:cNvSpPr/>
          <p:nvPr/>
        </p:nvSpPr>
        <p:spPr>
          <a:xfrm>
            <a:off x="1676520" y="2590920"/>
            <a:ext cx="1143000" cy="1143000"/>
          </a:xfrm>
          <a:prstGeom prst="smileyFace">
            <a:avLst>
              <a:gd name="adj" fmla="val 9282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657240" y="3124080"/>
            <a:ext cx="1676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THE END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6T08:55:36Z</dcterms:created>
  <dc:creator>Asiri Rathnayake</dc:creator>
  <dc:description/>
  <dc:language>en-US</dc:language>
  <cp:lastModifiedBy>Asiri Rathnayake</cp:lastModifiedBy>
  <dcterms:modified xsi:type="dcterms:W3CDTF">2009-01-06T09:18:00Z</dcterms:modified>
  <cp:revision>15</cp:revision>
  <dc:subject/>
  <dc:title>Slide 1</dc:title>
</cp:coreProperties>
</file>