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D0470-650A-485A-9F6A-70708A86A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65C0B-7773-40E3-9645-F2BF87A65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49D6E-267F-4518-9D47-6A6C8D082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6DBF3-23A7-4F1F-B520-3F269C5BD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019ED-37F3-4B82-9A64-43685729C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856AC-AEFF-4A94-9FF9-BCCBD87AB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F1890-8AF5-4F39-A52F-0A17B778B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AD16A-6FA7-438F-9629-C64FEAB9B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2C5CF-A426-4D8D-9C5C-98069A25F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B54B5-FED6-4D16-84A9-6E3DFA1BA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87FDA-C61A-47C9-A668-406526CF8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70396-FBA8-4B6D-A382-EA913FE66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617B7-9D63-46E1-959D-54F5E6C17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025F0-C29B-4A2A-8B77-11DB36275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CE1E1-30B7-4B0C-BC07-30EEAA00F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4D6E3-3A51-461A-ACAA-21EF3B980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3FA2B-F04F-49C9-8120-2D95119D3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62FEF13-2E55-4317-A7B6-40FE7C0D2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21A7B20-E65F-4C98-A3F6-C728494AB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F256493-C696-4DBB-9397-42C5120A2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C348FB5-532C-43D1-BF7D-2215CD56B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BDE34E9-6373-4356-9099-5BF0BA8AC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5BEB3-EBF7-45BC-A317-5E503939D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4705AA5-200C-4294-BE58-107508C9A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0DEFB2-62BD-4744-9423-ADF6269D1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C2240D0-9C4E-49D9-9885-5C285838E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170725F-1729-4FFD-9CBE-73934E1DA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E4FB56C-6B50-4A7E-83D7-FECD95671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914BB82-6992-4031-9AA5-E14E6D286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4260F6C-A392-492E-A806-8CBE2CD61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46CE47-2AD3-4FE8-BC1B-23C37308B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276460-B6C9-474F-85C0-E700D1402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B690F8-4615-488F-8B32-7869C05AB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CDC44-DC60-4F9A-B79E-8E8A284A1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6E466F-64A4-4BA5-9D15-DB5A5AF31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F81475-7945-4D01-BF21-DCA45DE59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0485F2-7CC1-4A5D-83BB-800C15E16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7EB2FB-031C-4984-BFA6-89895070B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821B38-4242-458E-A07E-965B31F7C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999D9D-9486-47CD-ADF2-2377EE494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D1D902-22B9-425D-A70D-665988F06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12298A-F190-4876-AD17-877ECC404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494E11-728D-4F9C-AA07-C39195FFE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F602F8C-8620-422F-ADF1-0151BF800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79E32-4DEA-4C83-AFBC-558C8F3B4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BEE5186-56E8-4203-A6D6-BE762E39F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2176F62-EC46-41F3-AD3D-3A8D75B67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46109C7-E395-4258-960B-44A73EE4F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31C3CE2-E99B-4D65-A551-4738B69C9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883280B-D5EC-4517-8AED-52A6AC649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3670FA5-7DAD-4CC9-BB86-A0E62DC10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C5A419B-2251-40ED-B910-02B02A3CB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8B82628-3334-4F51-8EF6-A8033B609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36609A8-F29A-4222-ACEC-4DF40E23A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236C068-B487-4DF3-B65A-D34035469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6D9FE-2C18-4D96-81F7-6678C0FCC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24B600B-CE58-4BE6-87DC-B3B959C37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22DC942-AB37-41F0-AB10-5482F90F8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F643DB8-364B-464E-AE9C-6988D6C84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485A9C9-7124-4E9F-8A00-7CD47F8C7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15914E0-64E8-424B-92C3-1FB6ECD39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3E543ED-C9B8-493F-839E-A5F385B8C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5A5D744-C416-4012-89BB-846A1F9FD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4FAA163-E0E1-4190-8527-D8F5782F9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5F6FE8F-C2C3-46CC-AEEA-1EF64DE3D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63DB60B-541F-4AE5-B4E9-7218B7150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5DC02-89BC-4DA9-9E59-DA7E6C346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76098AE-0555-421C-BFBD-E996D50FE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4E5AEC9-78B7-478C-BB85-4CA8D538F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AFCD719-AE5D-4A64-8B74-731F6CEF4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F195DA9-CA5F-41E7-89E8-02A98241F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590B7D7-D4EE-42D3-953C-F4FD8DB3C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FC7082D-A1FD-41C5-8431-519803A7C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8ACFEB3-8A47-4506-87BD-245F58B9E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F10E9E4-0880-445C-A310-6B8DBA73E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2C627F6-1F35-4249-B5FD-F812500DB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B08C220-90B9-403F-B333-744E03BF8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62CC1-3349-4D08-A026-125A9ACD1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7BDA644-0FC7-4EEA-AB23-F5677D983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234A359-2F93-4448-BFB6-0E7B8F237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83844AA-A3DA-4220-8D06-54AD61D03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410AC60-459B-45CB-BE52-9A2A90C1A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14222AE-E77E-44B5-9E37-5A33CF98A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DA5A2-D8AD-444A-BE59-37DAC8FA6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3CC56-271D-4F47-96AB-FA6F66763447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Straight Connector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Rectangle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Oval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Oval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Oval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Oval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8A59C-29E4-4E3D-AD60-63F120D01B0A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37C0C-4AF6-440A-BAD5-9B80D44CF5CD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Oval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Oval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Oval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Straight Connector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30E10-7C88-4AFF-817B-2769EBB041E0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F216D-D51C-4CCC-A6A0-666150C8D18E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Straight Connector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Straight Connector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Straight Connector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Rectangle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Straight Connector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Oval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E243C-32BC-48E6-B39C-00543290E0E5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Oval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Straight Connector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Straight Connector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D50C3-C14B-4948-90F0-7682B80DBD62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5345280"/>
            <a:ext cx="6172200" cy="52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575f6d"/>
                </a:solidFill>
                <a:latin typeface="Century Schoolbook"/>
              </a:rPr>
              <a:t>XWIKI OFFICE IMPORTER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943240"/>
            <a:ext cx="61722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- Asiri Rathnayake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INTRODUCTIO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6840" y="990360"/>
            <a:ext cx="7467480" cy="54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1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ub point – 1.1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ub point – 1.2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2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3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pecial Characters :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β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™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®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∑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Ω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∞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≥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µ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≠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±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5" name="Picture 3" descr="linux-logo.png"/>
          <p:cNvPicPr/>
          <p:nvPr/>
        </p:nvPicPr>
        <p:blipFill>
          <a:blip r:embed="rId1"/>
          <a:stretch/>
        </p:blipFill>
        <p:spPr>
          <a:xfrm>
            <a:off x="1066680" y="320040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STUFF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6840" y="914040"/>
            <a:ext cx="7467480" cy="55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ordAr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hap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nd more…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8" name="Rectangle 3" descr=""/>
          <p:cNvPicPr/>
          <p:nvPr/>
        </p:nvPicPr>
        <p:blipFill>
          <a:blip r:embed="rId1"/>
          <a:stretch/>
        </p:blipFill>
        <p:spPr>
          <a:xfrm>
            <a:off x="579600" y="1170000"/>
            <a:ext cx="4187520" cy="1128600"/>
          </a:xfrm>
          <a:prstGeom prst="rect">
            <a:avLst/>
          </a:prstGeom>
          <a:ln w="0">
            <a:noFill/>
          </a:ln>
        </p:spPr>
      </p:pic>
      <p:sp>
        <p:nvSpPr>
          <p:cNvPr id="359" name="Smiley Face 4"/>
          <p:cNvSpPr/>
          <p:nvPr/>
        </p:nvSpPr>
        <p:spPr>
          <a:xfrm>
            <a:off x="1676520" y="2590920"/>
            <a:ext cx="1143000" cy="1143000"/>
          </a:xfrm>
          <a:prstGeom prst="smileyFace">
            <a:avLst>
              <a:gd name="adj" fmla="val 9282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657240" y="3124080"/>
            <a:ext cx="1676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THE END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6T08:55:36Z</dcterms:created>
  <dc:creator>Asiri Rathnayake</dc:creator>
  <dc:description/>
  <dc:language>en-US</dc:language>
  <cp:lastModifiedBy>Asiri Rathnayake</cp:lastModifiedBy>
  <dcterms:modified xsi:type="dcterms:W3CDTF">2009-01-06T09:18:00Z</dcterms:modified>
  <cp:revision>15</cp:revision>
  <dc:subject/>
  <dc:title>Slide 1</dc:title>
</cp:coreProperties>
</file>