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4EFBE-FB2A-4D3E-A1FA-7EE2F62AC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9554A-6478-42F0-9634-043482347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A5A32-8D20-4471-810C-28845550C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D1474-9A9C-46BE-AC54-0D6FEBCD1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617AA-FE16-49B6-9C68-0D68BC714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CD428-8FBA-4CE7-9733-B1280F314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72CA9-BA38-4A09-8589-CE3DA6BAE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C6DBD-146F-428D-816C-55649FE0E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AA1CC-74B3-4AD0-A8B8-B30EAB903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EDFF7-B956-463F-A5DD-D24D1A34D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C1D21-F152-44A2-BABB-8B7A87886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EB9C5-3D6F-4A1E-86FE-C8C20E44C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BD329-15C1-4B40-B8F9-C06CEC748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D85FF-33DD-41E9-83B8-F18E4D8E2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68A7B-653B-43DF-BC6F-12508B609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7C94B-377B-4877-B7BE-28FB2A03D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F3903-81E7-422F-B4AE-B44C30317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7F7B412-1073-4BDF-ADCA-CBF7882E3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C5E244-2731-450A-99EF-71F77C126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ABD0361-DA40-48B2-8557-CC6BCEC70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10A9B01-883B-4DCB-871A-ECCC7A17F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D4A57C-45C8-4920-9C5F-7B9F25443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631B3-6140-4D64-9432-2015DEF89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861755C-35D4-4CA1-8FA1-40DDA3750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8BF030F-99DA-4549-812C-EA0828C42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DB9040-9792-48C7-9596-4519662B5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1637E0F-316E-432F-B3D0-075C4F6F7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904F866-A17C-4206-85E3-EB0525CE0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B16FDA9-39ED-469D-8556-7D9D2A29E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2151683-35C7-4EA2-84B2-8C0D0B661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196B5A-130D-4B44-A630-BEAC9BC74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3EB78C-903E-4D8C-BB27-D3E370757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54367C-4043-42D8-B256-F322C0A24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7D74C-B2C4-426D-8935-DD67AA156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83C4B6-40E2-477F-A9D4-ACBA63A43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F3D67A-C8C3-44EA-B553-05198B766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A1E5FC-C7E7-46AA-BFD1-D5E840FBA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71CAAF-57E5-473B-BF24-226D7E130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59FA6C-50B8-4BAC-9081-B11C66341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6E8F04-857B-461B-AFE7-E07585DE6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15CC99-940F-444D-87C6-BC4975B33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35AFC7-1A64-4C9A-88DF-ED5DC39D4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9BE05F-89F2-4A83-9452-D76EA6CD0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656F86A-8AAD-415C-AE0F-3F405A16D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26749-C154-4954-B03B-83810A208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BF1057B-796D-452E-832F-1A01DEB99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2A742B7-01E6-4B40-B7FD-641B31E6D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140D713-E369-4AD0-863E-DA9798EA5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B30F3E5-30E8-4C59-9B11-34DF88E71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5D3125F-3726-462E-85EA-7F413DA8E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13E4350-C4BE-440D-B21E-36BF49F05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7A04AFB-1B4E-4684-B207-12C548EE8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43313F1-B003-4004-8060-721555F41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AA7E9EB-813C-4FB0-881C-3F56FCC95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CE1D4D4-4B61-4BC5-B406-B55CCEE9D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22E71-705F-4BB7-8956-2F31C9788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ECBFB69-5B2F-4E85-8EDC-41979DC5A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F32C9BB-B777-495C-A963-4D4A3E4CC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3CAE8A3-560C-48FA-9C71-225C065B6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4E68918-EE64-4313-8A58-5421456C1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5F19276-DC8E-4ADE-B31B-79C15C2FF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DCAFA4C-7292-4EF5-A1E7-1FFF39EC9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3602B6E-A1D9-449D-AF14-B0C6FE1B6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7422593-1880-483F-ADA7-E9BCCD2B0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189E3E3-E9DE-4699-A459-2BFB1CED5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7A6AD77-3399-4FE8-AE6F-35A7FEFEA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303EC-4B49-4B9D-9ACF-3CEC24CA5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18E788B-0F73-4D28-A4E8-74DA324AA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E637DB0-6C51-4EFA-8BBD-FE4CFE83C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19D15A4-F2A5-4A77-8CFF-BFEA8B725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B939A16-9F2C-4680-B1F0-FC938F4F6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E137CB4-E46E-4F4A-9C53-2E208EB04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1DDCB4E-35FE-41D1-8329-EEABC2BF9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C845D4D-2EFD-402D-930F-33632D4E3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6C1EF31-57E7-4F5A-A96D-C40DD1DF3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95EF215-5A29-40DB-9FA0-CA132A4CD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1F5DE62-7406-4428-BF0E-3C81F0534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705B8-6781-4B57-B85F-357071111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10E3F62-CAE7-44B8-802B-462CF1EAA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002FE1B-5E64-4B0D-9E9E-4C5344D4A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976DF78-C7F1-4B07-8D83-CA3C15FEA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65CD310-43CA-4963-ADF0-485B65C08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508BF8A-EE70-4FF9-A784-6456C8D5F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A090C-CF17-41FC-9DAC-FAA395614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EBD16-85CC-432F-B054-FD8C056351E4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Straight Connector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Rectangle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Oval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Oval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Oval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Oval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07178-0B1E-4268-94D0-7017A6ECBB70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522A6-A1FE-4662-B951-B4BB52B9E6F5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Oval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Oval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Oval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Straight Connector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F2E26-C5E5-4835-A59E-C6A95DDBFA62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017C1-A329-4475-86C0-1EB0C05B7908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Straight Connector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Straight Connector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Straight Connector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Rectangle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Straight Connector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Oval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7B258-BDFD-4B66-BF19-1C885E985BB4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Oval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Straight Connector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Straight Connector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953BB-81C4-4B40-9C31-EB7AFE551937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5345280"/>
            <a:ext cx="6172200" cy="52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575f6d"/>
                </a:solidFill>
                <a:latin typeface="Century Schoolbook"/>
              </a:rPr>
              <a:t>XWIKI OFFICE IMPORTER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943240"/>
            <a:ext cx="61722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- Asiri Rathnayake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INTRODUCTIO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6840" y="990360"/>
            <a:ext cx="7467480" cy="54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1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ub point – 1.1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ub point – 1.2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2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3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pecial Characters :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β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™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®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∑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Ω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∞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≥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µ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≠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±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5" name="Picture 3" descr="linux-logo.png"/>
          <p:cNvPicPr/>
          <p:nvPr/>
        </p:nvPicPr>
        <p:blipFill>
          <a:blip r:embed="rId1"/>
          <a:stretch/>
        </p:blipFill>
        <p:spPr>
          <a:xfrm>
            <a:off x="1066680" y="320040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STUFF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6840" y="914040"/>
            <a:ext cx="7467480" cy="55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ordAr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hap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nd more…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8" name="Rectangle 3" descr=""/>
          <p:cNvPicPr/>
          <p:nvPr/>
        </p:nvPicPr>
        <p:blipFill>
          <a:blip r:embed="rId1"/>
          <a:stretch/>
        </p:blipFill>
        <p:spPr>
          <a:xfrm>
            <a:off x="579600" y="1170000"/>
            <a:ext cx="4187520" cy="1128600"/>
          </a:xfrm>
          <a:prstGeom prst="rect">
            <a:avLst/>
          </a:prstGeom>
          <a:ln w="0">
            <a:noFill/>
          </a:ln>
        </p:spPr>
      </p:pic>
      <p:sp>
        <p:nvSpPr>
          <p:cNvPr id="359" name="Smiley Face 4"/>
          <p:cNvSpPr/>
          <p:nvPr/>
        </p:nvSpPr>
        <p:spPr>
          <a:xfrm>
            <a:off x="1676520" y="2590920"/>
            <a:ext cx="1143000" cy="1143000"/>
          </a:xfrm>
          <a:prstGeom prst="smileyFace">
            <a:avLst>
              <a:gd name="adj" fmla="val 9282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657240" y="3124080"/>
            <a:ext cx="1676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THE END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6T08:55:36Z</dcterms:created>
  <dc:creator>Asiri Rathnayake</dc:creator>
  <dc:description/>
  <dc:language>en-US</dc:language>
  <cp:lastModifiedBy>Asiri Rathnayake</cp:lastModifiedBy>
  <dcterms:modified xsi:type="dcterms:W3CDTF">2009-01-06T09:18:00Z</dcterms:modified>
  <cp:revision>15</cp:revision>
  <dc:subject/>
  <dc:title>Slide 1</dc:title>
</cp:coreProperties>
</file>