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09EAB-5498-44E7-801D-220C579EB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FF203-19F4-4461-9E7F-9178BB5DC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04ACA-6032-4F23-9FA2-459D134BB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3B88F-227D-4587-9D01-F6908220E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161B0-9D6A-41FA-80B2-43C975BF7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379E6-B0BF-45AB-818D-1016415C8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E452F-9D4D-4FC6-BF60-00E59F0C7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F2243-3918-4D30-91B2-56FADDAF7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946C3-04BC-4536-8566-9810CD25E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06060-DBF2-4F35-9CC5-639BD3364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137D7-EFE1-407A-879E-FADDE5DFC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F35AE-6722-4313-8414-50CD98F33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3ABD1-82E8-4417-BD66-DDAED5509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B2D1E-0538-4745-8DA6-96372093E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D2170-9C1B-457D-9AE4-FA41FB8CF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A719D-994A-4115-A21E-9BC3A4349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98C72-BAEE-4628-B6F1-4FC73EE91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0F59231-F0CE-4CF9-8B6E-878BB7D57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7A35A2A-3154-41F6-9200-571462E77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60E40F5-08C7-4393-97E5-12DEA48C9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13DBF4-215B-4B3A-A6BD-785B41C94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ABCF0D4-7131-4A9C-92CE-A58313E3F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AFCF1-13B7-41D0-8F15-81444DB6C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8319E4D-5EE1-4299-B44E-0C042249B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F56EC13-D969-446F-8DC9-3912A95C1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B7ABE6C-842D-4C95-BA9B-26BC34FAD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19A0D6D-1D34-4497-A1D6-5E8F5A432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9556768-9F0F-40B1-9572-F4E752CF8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79CBDDB-18C7-47D2-8642-4E4F7D9B0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E9403F9-E1F6-43AA-B920-381BDC281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F91DA2-686B-49DF-AE52-EC6E3390F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79C41F-47A1-47EE-83D6-24FBA0EA8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032C15-F689-43F6-863E-07DC92E61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923C6-8BD8-4D6E-954F-457A67383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1ED2EC-A1FE-419C-A793-A501A03CE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589319-D947-4D3D-8A75-F6A7991F3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56F20B-F03F-4AF1-8020-8F5F74118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46BAA2-3907-40F8-9059-2606709D4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8CCC1E-C42C-4152-8EC7-2CD0E9A13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9B44DE-112C-4062-B0E3-2D42A9880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C73636-57D3-4E52-9E70-10C21CED2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0C7779-047B-4338-84A3-6CD1A312A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D83F6C-0DE3-488A-A391-0F3FECA97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2B7BE51-681B-4ED7-A33B-2163779DF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B893B-8AF0-40CA-AF90-6B82DCD47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A01A1B0-6BCA-42EB-AF35-3275A8BA2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637F843-2569-4DB8-8364-7CE873F45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A113889-F5DF-42E0-A11B-EA51873AF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028AE72-4D8A-45F7-B268-270C6F2F2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990BF68-7616-4AA0-B746-2601DF1B0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EFDB29A-7B96-488A-ACE1-970AB13DE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AF1E61D-4BA2-4959-904B-09E7CF30D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2E5C717-A8D2-4F4D-8A13-92F0C3AFA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F1237B5-E393-4546-AA34-51058DAFB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8E15762-C098-4E49-9728-1AE6005E1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35795-54E6-49CE-AC67-D9831A722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981C082-2C5D-4ABA-99E4-D2F4E5AA1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3EFEBD1-F961-404B-92C3-AF96D171B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095C245-27BF-4591-9601-93E2B53A9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9F3CB37-38E8-4320-A699-44469AD15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23F8CCA-877F-453A-9E3E-2C71100B5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F43B9FF-05A3-452C-8FE3-2F4B60FCC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DE89476-4328-4A90-B86D-B86F91D03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A2E9A14-46D5-4C1B-857A-1CB1CD48F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EA1B349-BEB5-42FC-A8CB-BB3AB6A1D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1BF5EA8-4C20-4D30-8D68-3AE2E55FB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D7FB8-6BA6-4F44-A6D9-A1CAE1167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5978904-29C9-4DE3-806A-42BDD2A00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A3BF793-6C56-46E2-B03A-5170673AA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F7F88C6-4F56-4ACF-A003-68E0728A0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30C093A-BC99-41D8-81A5-FDD2C7858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5DC891F-AC81-44C1-B7AD-4614854DE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7DB8A9A-1443-43EE-99A4-89E2C15B7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93A7F91-16D1-457E-9740-9F6D9134E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7976BE1-78C5-49AB-B38A-3C5A393A1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8474F34-7045-4025-A5F9-E0EDD702E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04D4B15-DA5D-433A-A016-581597859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A8379-71A9-45D4-B007-8C10D38FB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21AF838-E161-4C54-A965-01EB54302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C947619-F079-464D-A6E4-AA92449A1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815FFFC-6F5B-426D-BA0A-74F89E565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5A04B91-DC1F-47A6-9113-1A8BCD13D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996FBE8-6903-4903-A78C-4B5A47300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CA722-C6AA-4BAF-8E92-02A9A8182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6EB5B-A86D-4ED8-B1DB-84ACB49427D3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Straight Connector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Rectangle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Oval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Oval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Oval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Oval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2CFAE-CCEA-4438-9A03-784F570DC26D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38F91-7959-4990-A391-05940D2B8861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Oval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Oval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Oval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Straight Connector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D9D9D-017D-4941-8813-A0CD17841439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5505F-1DB9-4E30-8ADD-8894AA5D3B5D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Straight Connector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Straight Connector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Straight Connector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Rectangle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Straight Connector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Oval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01D42-863A-422C-9B26-01026E2187F1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Oval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Straight Connector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Straight Connector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1E572-2FEE-4111-BB23-4A41F825D216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5345280"/>
            <a:ext cx="6172200" cy="52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575f6d"/>
                </a:solidFill>
                <a:latin typeface="Century Schoolbook"/>
              </a:rPr>
              <a:t>XWIKI OFFICE IMPORTER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943240"/>
            <a:ext cx="61722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- Asiri Rathnayake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INTRODUCTIO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6840" y="990360"/>
            <a:ext cx="7467480" cy="54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1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ub point – 1.1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ub point – 1.2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2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3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pecial Characters :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β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™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®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∑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Ω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∞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≥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µ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≠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±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5" name="Picture 3" descr="linux-logo.png"/>
          <p:cNvPicPr/>
          <p:nvPr/>
        </p:nvPicPr>
        <p:blipFill>
          <a:blip r:embed="rId1"/>
          <a:stretch/>
        </p:blipFill>
        <p:spPr>
          <a:xfrm>
            <a:off x="1066680" y="320040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STUFF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6840" y="914040"/>
            <a:ext cx="7467480" cy="55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ordAr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hap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nd more…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8" name="Rectangle 3" descr=""/>
          <p:cNvPicPr/>
          <p:nvPr/>
        </p:nvPicPr>
        <p:blipFill>
          <a:blip r:embed="rId1"/>
          <a:stretch/>
        </p:blipFill>
        <p:spPr>
          <a:xfrm>
            <a:off x="579600" y="1170000"/>
            <a:ext cx="4187520" cy="1128600"/>
          </a:xfrm>
          <a:prstGeom prst="rect">
            <a:avLst/>
          </a:prstGeom>
          <a:ln w="0">
            <a:noFill/>
          </a:ln>
        </p:spPr>
      </p:pic>
      <p:sp>
        <p:nvSpPr>
          <p:cNvPr id="359" name="Smiley Face 4"/>
          <p:cNvSpPr/>
          <p:nvPr/>
        </p:nvSpPr>
        <p:spPr>
          <a:xfrm>
            <a:off x="1676520" y="2590920"/>
            <a:ext cx="1143000" cy="1143000"/>
          </a:xfrm>
          <a:prstGeom prst="smileyFace">
            <a:avLst>
              <a:gd name="adj" fmla="val 9282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657240" y="3124080"/>
            <a:ext cx="1676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THE END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6T08:55:36Z</dcterms:created>
  <dc:creator>Asiri Rathnayake</dc:creator>
  <dc:description/>
  <dc:language>en-US</dc:language>
  <cp:lastModifiedBy>Asiri Rathnayake</cp:lastModifiedBy>
  <dcterms:modified xsi:type="dcterms:W3CDTF">2009-01-06T09:18:00Z</dcterms:modified>
  <cp:revision>15</cp:revision>
  <dc:subject/>
  <dc:title>Slide 1</dc:title>
</cp:coreProperties>
</file>